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A0A5-5CAC-4774-8254-D2B33502C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EA08-E30F-40C5-AE22-5D57186EA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A511-894B-4527-8BCA-779D33FA9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1998-DA24-4BE3-93D9-17AB92677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F67A-4F9F-4634-8612-119A1CF5B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E592-087D-4ABF-BE32-ED9BA854D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F999-4E91-4EFB-A94F-342268695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6038-DF3B-4612-856E-26E32721D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5C55-190B-437D-BA30-4A66EA48A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EE3F-B768-4150-B1A7-03116C7E7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3F12-3D06-4B4C-B14F-CDDAD895A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FCA2-3C69-446F-B4D3-2436FA2D8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92136-58F6-4D9F-8DF9-1EA1B4FFAD99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3333cc"/>
                </a:solidFill>
                <a:latin typeface="Times New Roman"/>
              </a:rPr>
              <a:t>Part IX.</a:t>
            </a:r>
            <a:br>
              <a:rPr sz="7200"/>
            </a:br>
            <a:r>
              <a:rPr b="1" lang="cs-CZ" sz="7200" spc="-1" strike="noStrike">
                <a:solidFill>
                  <a:srgbClr val="3333cc"/>
                </a:solidFill>
                <a:latin typeface="Times New Roman"/>
              </a:rPr>
              <a:t>Bottom-Up Parsing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5600880" y="5578560"/>
            <a:ext cx="2666880" cy="457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505640" y="3263760"/>
            <a:ext cx="381240" cy="3264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 of Precedence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ble 3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09480" y="106668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) Identifier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372280" y="1913040"/>
            <a:ext cx="1218960" cy="486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981760" y="3263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981760" y="3749760"/>
            <a:ext cx="2286000" cy="277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362640" y="32637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743880" y="3263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124760" y="3263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505640" y="326376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886880" y="3263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600880" y="3749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600880" y="42069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600880" y="46353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600880" y="50925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600880" y="5578560"/>
            <a:ext cx="38088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600880" y="6035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981760" y="55468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362640" y="55468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124760" y="55468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505640" y="37180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505640" y="4175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505640" y="46483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505640" y="6019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886880" y="55468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09480" y="1447920"/>
            <a:ext cx="800100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ece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y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72280" y="1447920"/>
            <a:ext cx="1218960" cy="486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09480" y="243828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ecedence-tab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09480" y="4276800"/>
            <a:ext cx="483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    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 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may preced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09480" y="330516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* 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)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876240" y="5919840"/>
            <a:ext cx="4572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may follow 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47640" y="48420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i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+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i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i</a:t>
            </a:r>
            <a:r>
              <a:rPr b="1" i="1" lang="en-US" sz="36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120" y="3838680"/>
            <a:ext cx="0" cy="4572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523880" y="3838680"/>
            <a:ext cx="0" cy="4572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905120" y="3838680"/>
            <a:ext cx="0" cy="4572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590920" y="3838680"/>
            <a:ext cx="0" cy="4572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104840" y="545148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714680" y="545148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095560" y="545148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781360" y="545148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505640" y="5578560"/>
            <a:ext cx="381240" cy="457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5867280" y="5000760"/>
            <a:ext cx="2667240" cy="9144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010280" y="3600360"/>
            <a:ext cx="762120" cy="3264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010280" y="5000760"/>
            <a:ext cx="762120" cy="9144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800600" y="2286000"/>
            <a:ext cx="990720" cy="396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 of Precedence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ble 4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09480" y="106668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Parenthese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09480" y="1523880"/>
            <a:ext cx="586764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air of parentheses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{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. The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{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. The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ece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The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The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800600" y="1905120"/>
            <a:ext cx="990720" cy="396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553080" y="2590920"/>
            <a:ext cx="990720" cy="396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553080" y="3048120"/>
            <a:ext cx="990720" cy="396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248520" y="36003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248520" y="4086360"/>
            <a:ext cx="2286000" cy="277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629400" y="36003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010280" y="360036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391520" y="3600360"/>
            <a:ext cx="38088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772400" y="36003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8153280" y="36003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867280" y="40863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867280" y="45435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67280" y="500076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867280" y="545796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867280" y="59151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867280" y="63723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248520" y="53960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248520" y="4984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629400" y="53960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629400" y="4984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010280" y="40543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010280" y="4511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010280" y="4984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010280" y="6308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391520" y="40543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391520" y="4511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391520" y="53960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391520" y="58831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391520" y="4984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772400" y="4984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8153280" y="53960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85800" y="350532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09480" y="3429000"/>
            <a:ext cx="53341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ecedence-tab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enthe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800600" y="1523880"/>
            <a:ext cx="990720" cy="396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990720" y="4267080"/>
            <a:ext cx="41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 (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*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+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 + 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))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990720" y="5105520"/>
            <a:ext cx="4572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      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y preced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143000" y="4800600"/>
            <a:ext cx="0" cy="30492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057400" y="4800600"/>
            <a:ext cx="0" cy="30492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590920" y="4800600"/>
            <a:ext cx="0" cy="30492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200400" y="4800600"/>
            <a:ext cx="0" cy="30492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52280" y="556272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(((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 + i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)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371600" y="6424560"/>
            <a:ext cx="4572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ff993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y follow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828800" y="609588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438280" y="609588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895480" y="609588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733920" y="609588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5457960"/>
            <a:ext cx="228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7391520" y="4086000"/>
            <a:ext cx="0" cy="2778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3581280" y="5438880"/>
            <a:ext cx="1524240" cy="48564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724280" y="4010040"/>
            <a:ext cx="381240" cy="19144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 of Precedence Table 5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09480" y="106668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End Marker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85800" y="1447920"/>
            <a:ext cx="487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any operator. T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676520" y="2133720"/>
            <a:ext cx="2895480" cy="579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962520" y="4495680"/>
            <a:ext cx="1143000" cy="1428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724280" y="401004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581280" y="543888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724280" y="4889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724280" y="44323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962520" y="5408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343400" y="5408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962520" y="40100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343400" y="40100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581280" y="449568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581280" y="495288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562720" y="1295280"/>
            <a:ext cx="0" cy="523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5562720" y="1143000"/>
            <a:ext cx="2895480" cy="4678200"/>
            <a:chOff x="5562720" y="1143000"/>
            <a:chExt cx="2895480" cy="4678200"/>
          </a:xfrm>
        </p:grpSpPr>
        <p:sp>
          <p:nvSpPr>
            <p:cNvPr id="596" name=""/>
            <p:cNvSpPr/>
            <p:nvPr/>
          </p:nvSpPr>
          <p:spPr>
            <a:xfrm>
              <a:off x="6095880" y="2514600"/>
              <a:ext cx="38124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095880" y="3000240"/>
              <a:ext cx="2286000" cy="2772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477120" y="251460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858000" y="251460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238880" y="2514600"/>
              <a:ext cx="38124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620120" y="251460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8001000" y="251460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715000" y="30002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33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715000" y="34574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33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9146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33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43718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33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715000" y="48290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9933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5000" y="52862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33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09588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09588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095880" y="430992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095880" y="47973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095880" y="38988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095880" y="52704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47712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47712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477120" y="430992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477120" y="47973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477120" y="38988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477120" y="52704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85800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85800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858000" y="38988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858000" y="52704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23888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23888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238880" y="430992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238880" y="47973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238880" y="38988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62012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62012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620120" y="38988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620120" y="52704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800100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800100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001000" y="430992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8001000" y="47973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562720" y="1143000"/>
              <a:ext cx="2819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685800" y="2819520"/>
            <a:ext cx="4876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09480" y="2743200"/>
            <a:ext cx="518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ecedence-tab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  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d-mark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990720" y="4267080"/>
            <a:ext cx="10443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$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$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*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209680" y="4800600"/>
            <a:ext cx="1067040" cy="503280"/>
          </a:xfrm>
          <a:prstGeom prst="rightArrow">
            <a:avLst>
              <a:gd name="adj1" fmla="val 50000"/>
              <a:gd name="adj2" fmla="val 53004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724280" y="5438880"/>
            <a:ext cx="381240" cy="48564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R-Pars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09480" y="1143000"/>
            <a:ext cx="853452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be a CFG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09480" y="2133720"/>
            <a:ext cx="822960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R-parser is a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DA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ith state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…,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30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where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the start stat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based on LR table that has these two par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ction par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o-to par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on Part &amp; Go-to P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85800" y="210024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85800" y="34434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85800" y="25290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286000" y="2100240"/>
            <a:ext cx="533520" cy="22860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219320" y="2986200"/>
            <a:ext cx="3200400" cy="482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09480" y="4572000"/>
            <a:ext cx="3810240" cy="2144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 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2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3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ift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duce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en-US" sz="27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succ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blank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err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85800" y="29862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85800" y="39006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219320" y="1614600"/>
            <a:ext cx="53316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819520" y="1614600"/>
            <a:ext cx="53316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752480" y="16146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286000" y="16146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352680" y="16146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886200" y="16146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219320" y="2100240"/>
            <a:ext cx="3200400" cy="228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286000" y="2986200"/>
            <a:ext cx="533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V="1">
            <a:off x="2590920" y="3214800"/>
            <a:ext cx="0" cy="13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09480" y="1143000"/>
            <a:ext cx="1981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ction Part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80120" y="1552680"/>
            <a:ext cx="4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257800" y="208584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257800" y="34290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257800" y="25146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858000" y="2085840"/>
            <a:ext cx="533520" cy="22860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791320" y="2971800"/>
            <a:ext cx="2666880" cy="48276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257800" y="4557600"/>
            <a:ext cx="3200400" cy="1352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 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i="1" lang="en-US" sz="2700" spc="-1" strike="noStrike">
                <a:solidFill>
                  <a:srgbClr val="ff9933"/>
                </a:solidFill>
                <a:latin typeface="Times New Roman"/>
              </a:rPr>
              <a:t>q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700" spc="-1" strike="noStrike">
                <a:solidFill>
                  <a:srgbClr val="ff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blan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257800" y="29718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257800" y="38862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791320" y="1600200"/>
            <a:ext cx="53316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391520" y="1600200"/>
            <a:ext cx="53316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324480" y="16002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858000" y="16002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924680" y="16002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791320" y="2085840"/>
            <a:ext cx="2666880" cy="228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858000" y="2971800"/>
            <a:ext cx="533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7162920" y="3200400"/>
            <a:ext cx="0" cy="13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181480" y="1128600"/>
            <a:ext cx="1981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Go-to Part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369040" y="153828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609480" y="4114800"/>
            <a:ext cx="838440" cy="7621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33520" y="1066680"/>
            <a:ext cx="84582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LR-table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parse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otherwise, 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09480" y="1905120"/>
            <a:ext cx="7696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33520" y="1889280"/>
            <a:ext cx="861048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3333cc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5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push(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5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onto pushdow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tat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5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= the current toke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cas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tat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of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push(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 &amp; read next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from inpu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string &amp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tat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 if 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1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2</a:t>
            </a:r>
            <a:r>
              <a:rPr b="1" lang="en-US" sz="2500" spc="-1" strike="noStrike">
                <a:solidFill>
                  <a:srgbClr val="66ccff"/>
                </a:solidFill>
                <a:latin typeface="Times New Roman"/>
              </a:rPr>
              <a:t>… 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i="1" lang="cs-CZ" sz="2500" spc="-1" strike="noStrike" baseline="-25000">
                <a:solidFill>
                  <a:srgbClr val="66ccff"/>
                </a:solidFill>
                <a:latin typeface="Times New Roman"/>
              </a:rPr>
              <a:t>n</a:t>
            </a:r>
            <a:r>
              <a:rPr b="0" i="1" lang="en-US" sz="25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2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…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i="1" lang="cs-CZ" sz="2500" spc="-1" strike="noStrike" baseline="-25000">
                <a:solidFill>
                  <a:srgbClr val="66ccff"/>
                </a:solidFill>
                <a:latin typeface="Times New Roman"/>
              </a:rPr>
              <a:t>n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&gt;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is p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ush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ow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t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tat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5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] &amp;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replace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2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…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i="1" lang="cs-CZ" sz="2500" spc="-1" strike="noStrike" baseline="-25000">
                <a:solidFill>
                  <a:srgbClr val="66ccff"/>
                </a:solidFill>
                <a:latin typeface="Times New Roman"/>
              </a:rPr>
              <a:t>n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with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tate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on the pushdown &amp; write 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to outpu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erro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9933"/>
                </a:solidFill>
                <a:latin typeface="Times New Roman"/>
              </a:rPr>
              <a:t>blank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erro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until </a:t>
            </a:r>
            <a:r>
              <a:rPr b="1" lang="en-US" sz="2500" spc="-1" strike="noStrike">
                <a:solidFill>
                  <a:srgbClr val="339933"/>
                </a:solidFill>
                <a:latin typeface="Times New Roman"/>
              </a:rPr>
              <a:t>success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erro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R-Parser: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57200" y="396252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422360" y="4572000"/>
            <a:ext cx="1320840" cy="152280"/>
          </a:xfrm>
          <a:custGeom>
            <a:avLst/>
            <a:gdLst/>
            <a:ahLst/>
            <a:rect l="l" t="t" r="r" b="b"/>
            <a:pathLst>
              <a:path w="784" h="296">
                <a:moveTo>
                  <a:pt x="16" y="40"/>
                </a:moveTo>
                <a:cubicBezTo>
                  <a:pt x="8" y="20"/>
                  <a:pt x="0" y="0"/>
                  <a:pt x="64" y="40"/>
                </a:cubicBezTo>
                <a:cubicBezTo>
                  <a:pt x="128" y="80"/>
                  <a:pt x="280" y="264"/>
                  <a:pt x="400" y="280"/>
                </a:cubicBezTo>
                <a:cubicBezTo>
                  <a:pt x="520" y="296"/>
                  <a:pt x="652" y="216"/>
                  <a:pt x="784" y="136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R-Parser: Exampl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33520" y="1143000"/>
            <a:ext cx="78483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85800" y="22860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09480" y="2209680"/>
            <a:ext cx="403884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LR-table for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25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62120" y="266688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762120" y="3048120"/>
            <a:ext cx="53316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2193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621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62120" y="304812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62120" y="662940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6765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1337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5909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0481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219320" y="3048120"/>
            <a:ext cx="53316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676520" y="3048120"/>
            <a:ext cx="53316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5053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9625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133720" y="3048120"/>
            <a:ext cx="53316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590920" y="3048120"/>
            <a:ext cx="53316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048120" y="3048120"/>
            <a:ext cx="609480" cy="36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505320" y="3048120"/>
            <a:ext cx="60948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7162920" y="3048120"/>
            <a:ext cx="3045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7620120" y="3048120"/>
            <a:ext cx="304560" cy="21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8077320" y="3048120"/>
            <a:ext cx="45720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85800" y="25909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*     (     )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629400" y="3048120"/>
            <a:ext cx="53352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708660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62940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54380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00100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845820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>
            <a:off x="6629400" y="6629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>
            <a:off x="6629400" y="30481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553080" y="25909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T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29400" y="26668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419720" y="3809880"/>
            <a:ext cx="1752480" cy="8758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ion 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419720" y="4876920"/>
            <a:ext cx="1752480" cy="8758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-to 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886200" y="3809880"/>
            <a:ext cx="533520" cy="838440"/>
          </a:xfrm>
          <a:prstGeom prst="leftArrow">
            <a:avLst>
              <a:gd name="adj1" fmla="val 50000"/>
              <a:gd name="adj2" fmla="val 4166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H="1">
            <a:off x="6172200" y="4952880"/>
            <a:ext cx="533520" cy="838440"/>
          </a:xfrm>
          <a:prstGeom prst="leftArrow">
            <a:avLst>
              <a:gd name="adj1" fmla="val 50000"/>
              <a:gd name="adj2" fmla="val 4166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R-Parser: Example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85800" y="22860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5435640"/>
                <a:tab algn="l" pos="6006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0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47640" y="1130400"/>
            <a:ext cx="7925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85800" y="1981080"/>
            <a:ext cx="7924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52560"/>
                <a:tab algn="l" pos="3238560"/>
                <a:tab algn="l" pos="3619440"/>
                <a:tab algn="l" pos="4762440"/>
                <a:tab algn="l" pos="6578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ushdown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t.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nter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u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8580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34340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10552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70572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85800" y="6629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85800" y="16765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845820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88620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85800" y="2590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5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85800" y="28954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85800" y="32004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3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85800" y="35053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85800" y="38098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0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2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85800" y="41148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0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2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7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85800" y="44197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0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2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5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85800" y="47242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85800" y="50292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2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7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10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66ccff"/>
                </a:solidFill>
                <a:latin typeface="Times New Roman"/>
              </a:rPr>
              <a:t>T*F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85800" y="53341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85800" y="56386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2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66cc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85800" y="59436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85800" y="62485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0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1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629400" y="6019920"/>
            <a:ext cx="2286000" cy="610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ight parse: </a:t>
            </a:r>
            <a:r>
              <a:rPr b="1" lang="en-US" sz="2000" spc="-1" strike="noStrike">
                <a:solidFill>
                  <a:srgbClr val="ff66ff"/>
                </a:solidFill>
                <a:latin typeface="Times New Roman"/>
              </a:rPr>
              <a:t>646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781680" y="2514600"/>
            <a:ext cx="0" cy="358128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 Table: Introduc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85800" y="11430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One parsing algorithm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u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many algorithms for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nstruction of LR 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85800" y="22096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Basic algorithm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for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construction of LR t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685800" y="2666880"/>
            <a:ext cx="8077320" cy="32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Simple LR (SLR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east powerful, but simp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few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Canonical L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o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werfu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bu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Lookahead LR (LALR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est because the most powerfu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nd the same number of states as SL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62120" y="5943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Extended Grammar with a 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Dummy Rule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33520" y="449568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09480" y="4114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09480" y="1600200"/>
            <a:ext cx="7772400" cy="12952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33520" y="1600200"/>
            <a:ext cx="8076960" cy="12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b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’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Extended gramma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gramma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’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’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09480" y="106668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Grammar with special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starting rule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”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33520" y="40384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33520" y="2819520"/>
            <a:ext cx="861048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Why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 dummy rule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?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S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used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nput token is endmarker, then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syntax analysi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is successfully completed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33520" y="5521320"/>
            <a:ext cx="838188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tended grammar f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 flipV="1">
            <a:off x="3581280" y="2438280"/>
            <a:ext cx="2438640" cy="990720"/>
          </a:xfrm>
          <a:custGeom>
            <a:avLst/>
            <a:gdLst>
              <a:gd name="textAreaLeft" fmla="*/ 309600 w 2438640"/>
              <a:gd name="textAreaRight" fmla="*/ 2129040 w 2438640"/>
              <a:gd name="textAreaTop" fmla="*/ 125640 h 990720"/>
              <a:gd name="textAreaBottom" fmla="*/ 865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11" y="21600"/>
                </a:lnTo>
                <a:lnTo>
                  <a:pt x="1789" y="2160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Bottom-U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Parsing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066680"/>
            <a:ext cx="807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1) Two or more rules have the same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hand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505320"/>
            <a:ext cx="7620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andle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righ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hand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side of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ru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8148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23623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343400" y="23623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105520" y="23623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4190760" y="1600200"/>
            <a:ext cx="1219320" cy="838080"/>
            <a:chOff x="4190760" y="1600200"/>
            <a:chExt cx="1219320" cy="838080"/>
          </a:xfrm>
        </p:grpSpPr>
        <p:sp>
          <p:nvSpPr>
            <p:cNvPr id="54" name=""/>
            <p:cNvSpPr/>
            <p:nvPr/>
          </p:nvSpPr>
          <p:spPr>
            <a:xfrm>
              <a:off x="4495680" y="16002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95680" y="16002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4190760" y="2057400"/>
              <a:ext cx="5331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4647960" y="2057400"/>
              <a:ext cx="759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724280" y="2057400"/>
              <a:ext cx="685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480060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1676520"/>
            <a:ext cx="35812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cs-CZ" sz="30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: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 A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0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762120" y="2133720"/>
            <a:ext cx="3581280" cy="1069200"/>
            <a:chOff x="762120" y="2133720"/>
            <a:chExt cx="3581280" cy="1069200"/>
          </a:xfrm>
        </p:grpSpPr>
        <p:sp>
          <p:nvSpPr>
            <p:cNvPr id="62" name=""/>
            <p:cNvSpPr/>
            <p:nvPr/>
          </p:nvSpPr>
          <p:spPr>
            <a:xfrm>
              <a:off x="762120" y="2133720"/>
              <a:ext cx="358128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ff66ff"/>
                  </a:solidFill>
                  <a:latin typeface="Times New Roman"/>
                </a:rPr>
                <a:t>r</a:t>
              </a:r>
              <a:r>
                <a:rPr b="1" lang="cs-CZ" sz="3000" spc="-1" strike="noStrike" baseline="-25000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cs-CZ" sz="30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cs-CZ" sz="30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cs-CZ" sz="30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2133360" y="2666880"/>
              <a:ext cx="1600200" cy="536040"/>
              <a:chOff x="2133360" y="2666880"/>
              <a:chExt cx="1600200" cy="536040"/>
            </a:xfrm>
          </p:grpSpPr>
          <p:sp>
            <p:nvSpPr>
              <p:cNvPr id="64" name=""/>
              <p:cNvSpPr/>
              <p:nvPr/>
            </p:nvSpPr>
            <p:spPr>
              <a:xfrm rot="5400000">
                <a:off x="2856960" y="1942920"/>
                <a:ext cx="152640" cy="1600200"/>
              </a:xfrm>
              <a:custGeom>
                <a:avLst/>
                <a:gdLst>
                  <a:gd name="textAreaLeft" fmla="*/ 0 w 152640"/>
                  <a:gd name="textAreaRight" fmla="*/ 55080 w 152640"/>
                  <a:gd name="textAreaTop" fmla="*/ 41400 h 1600200"/>
                  <a:gd name="textAreaBottom" fmla="*/ 1558800 h 160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286000" y="2743200"/>
                <a:ext cx="129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handl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" name=""/>
          <p:cNvSpPr/>
          <p:nvPr/>
        </p:nvSpPr>
        <p:spPr>
          <a:xfrm>
            <a:off x="3581280" y="3505320"/>
            <a:ext cx="243864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30481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to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6248520" y="2438280"/>
            <a:ext cx="2438280" cy="990720"/>
          </a:xfrm>
          <a:custGeom>
            <a:avLst/>
            <a:gdLst>
              <a:gd name="textAreaLeft" fmla="*/ 309600 w 2438280"/>
              <a:gd name="textAreaRight" fmla="*/ 2128680 w 2438280"/>
              <a:gd name="textAreaTop" fmla="*/ 125640 h 990720"/>
              <a:gd name="textAreaBottom" fmla="*/ 865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11" y="21600"/>
                </a:lnTo>
                <a:lnTo>
                  <a:pt x="1789" y="2160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2940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8660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84872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553080" y="236232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010280" y="236232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772400" y="23623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6858000" y="1600200"/>
            <a:ext cx="1219320" cy="838080"/>
            <a:chOff x="6858000" y="1600200"/>
            <a:chExt cx="1219320" cy="838080"/>
          </a:xfrm>
        </p:grpSpPr>
        <p:sp>
          <p:nvSpPr>
            <p:cNvPr id="76" name=""/>
            <p:cNvSpPr/>
            <p:nvPr/>
          </p:nvSpPr>
          <p:spPr>
            <a:xfrm>
              <a:off x="7162920" y="16002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162920" y="16002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6858000" y="2057400"/>
              <a:ext cx="5335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7315200" y="2057400"/>
              <a:ext cx="763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391520" y="2057400"/>
              <a:ext cx="685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746748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248520" y="3505320"/>
            <a:ext cx="243828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629400" y="30481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to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029200" y="1600200"/>
            <a:ext cx="2057400" cy="782280"/>
            <a:chOff x="5029200" y="1600200"/>
            <a:chExt cx="2057400" cy="782280"/>
          </a:xfrm>
        </p:grpSpPr>
        <p:sp>
          <p:nvSpPr>
            <p:cNvPr id="85" name=""/>
            <p:cNvSpPr/>
            <p:nvPr/>
          </p:nvSpPr>
          <p:spPr>
            <a:xfrm>
              <a:off x="5410080" y="1600200"/>
              <a:ext cx="1295640" cy="782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Use rule </a:t>
              </a:r>
              <a:r>
                <a:rPr b="1" i="1" lang="cs-CZ" sz="2400" spc="-1" strike="noStrike">
                  <a:solidFill>
                    <a:srgbClr val="ff66ff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or </a:t>
              </a:r>
              <a:r>
                <a:rPr b="1" i="1" lang="cs-CZ" sz="2400" spc="-1" strike="noStrike">
                  <a:solidFill>
                    <a:srgbClr val="ff66ff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5029200" y="190512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705720" y="190512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609480" y="3886200"/>
            <a:ext cx="8305920" cy="3096000"/>
            <a:chOff x="609480" y="3886200"/>
            <a:chExt cx="8305920" cy="3096000"/>
          </a:xfrm>
        </p:grpSpPr>
        <p:sp>
          <p:nvSpPr>
            <p:cNvPr id="89" name=""/>
            <p:cNvSpPr/>
            <p:nvPr/>
          </p:nvSpPr>
          <p:spPr>
            <a:xfrm>
              <a:off x="838080" y="3962520"/>
              <a:ext cx="769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772400" y="5715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5920" y="57150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534520" y="6172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01000" y="6172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315200" y="571500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229600" y="56386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229600" y="56386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8000640" y="5638680"/>
              <a:ext cx="228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876920" y="57150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486400" y="5715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715000" y="6172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105520" y="6172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324480" y="571500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10080" y="56386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10080" y="56386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5105520" y="5638680"/>
              <a:ext cx="3045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105520" y="4038480"/>
              <a:ext cx="3809880" cy="395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Which of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these tree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o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create?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5800" y="3886200"/>
              <a:ext cx="8077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2) Ambiguous grammar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9480" y="4495680"/>
              <a:ext cx="4648320" cy="160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xp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w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{ 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467480" y="44956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86600" y="5181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001000" y="5181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1520" y="632448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24680" y="64008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96080" y="6324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229600" y="6324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10280" y="6324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7391520" y="49528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696080" y="4952880"/>
              <a:ext cx="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696080" y="4952880"/>
              <a:ext cx="5335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791320" y="45720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095880" y="5181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81480" y="5181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81480" y="6324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15000" y="64008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486400" y="6324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019920" y="632448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76920" y="62784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5486400" y="5029200"/>
              <a:ext cx="5335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19920" y="5029200"/>
              <a:ext cx="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19920" y="502920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6248160" y="4495680"/>
              <a:ext cx="53316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934320" y="4495680"/>
              <a:ext cx="53316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onstruction of LR Table: I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685800" y="205740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685800" y="205740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a CF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n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 a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t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cs-CZ" sz="30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609480" y="3124080"/>
            <a:ext cx="807732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tems for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T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1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cs-CZ" sz="31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1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cs-CZ" sz="31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1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cs-CZ" sz="31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1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cs-CZ" sz="31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609480" y="1066680"/>
            <a:ext cx="7772400" cy="10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tem is a rule of CFG with </a:t>
            </a:r>
            <a:r>
              <a:rPr b="0" lang="cs-CZ" sz="31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in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the right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side of rule.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685800" y="4648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609480" y="4572000"/>
            <a:ext cx="76964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Meaning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s that if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ears on the pushdown top and a prefix of the input is eventually reduced to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yz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nd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be reduced to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cording to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/>
          <p:nvPr/>
        </p:nvSpPr>
        <p:spPr>
          <a:xfrm>
            <a:off x="60948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09480" y="19810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e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osur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609480" y="3048120"/>
            <a:ext cx="8305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osur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pply the following rule unti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osur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nnot be chang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osur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osur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of Item: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09480" y="1143000"/>
            <a:ext cx="80773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losure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the set of items defined by the following algorithm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of Item: Example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533520" y="1143000"/>
            <a:ext cx="83818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60948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533520" y="2286000"/>
            <a:ext cx="5715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60948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33520" y="28195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09480" y="3200400"/>
            <a:ext cx="8305920" cy="10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+T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+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60948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0948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09480" y="4343400"/>
            <a:ext cx="7696440" cy="10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09480" y="5410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09480" y="5486400"/>
            <a:ext cx="8382240" cy="10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*F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*F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609480" y="6553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of Item: Example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33520" y="1143000"/>
            <a:ext cx="83818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60948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33520" y="2362320"/>
            <a:ext cx="8610480" cy="13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4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0948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33520" y="3657600"/>
            <a:ext cx="8305560" cy="13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5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609480" y="4952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533520" y="5029200"/>
            <a:ext cx="8305560" cy="16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609480" y="6705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or Grammar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1/2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85800" y="205740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685800" y="2057400"/>
            <a:ext cx="80773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CF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{&lt;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 an ite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609480" y="3124080"/>
            <a:ext cx="807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09480" y="1066680"/>
            <a:ext cx="777240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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s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the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t of all prefixes of the right-hand sides of rules 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609480" y="358128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09480" y="4267080"/>
            <a:ext cx="27432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609480" y="4876920"/>
            <a:ext cx="78487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mbers o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f length 0: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685800" y="4876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685800" y="5410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609480" y="5378400"/>
            <a:ext cx="78487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mbers o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f length 1: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609480" y="5835600"/>
            <a:ext cx="8077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+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*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339933"/>
                </a:solidFill>
                <a:uFillTx/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 u="sng">
                <a:solidFill>
                  <a:srgbClr val="339933"/>
                </a:solidFill>
                <a:uFillTx/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rot="5400000">
            <a:off x="1752480" y="5149800"/>
            <a:ext cx="152640" cy="2286000"/>
          </a:xfrm>
          <a:custGeom>
            <a:avLst/>
            <a:gdLst>
              <a:gd name="textAreaLeft" fmla="*/ 0 w 152640"/>
              <a:gd name="textAreaRight" fmla="*/ 55080 w 15264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rot="5400000">
            <a:off x="4190760" y="5149800"/>
            <a:ext cx="152640" cy="2286000"/>
          </a:xfrm>
          <a:custGeom>
            <a:avLst/>
            <a:gdLst>
              <a:gd name="textAreaLeft" fmla="*/ 0 w 152640"/>
              <a:gd name="textAreaRight" fmla="*/ 55080 w 15264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rot="5400000">
            <a:off x="6895440" y="4806720"/>
            <a:ext cx="152640" cy="2971800"/>
          </a:xfrm>
          <a:custGeom>
            <a:avLst/>
            <a:gdLst>
              <a:gd name="textAreaLeft" fmla="*/ 0 w 152640"/>
              <a:gd name="textAreaRight" fmla="*/ 55080 w 15264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727560" y="6369120"/>
            <a:ext cx="20739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165480" y="6369120"/>
            <a:ext cx="20556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528520" y="6369120"/>
            <a:ext cx="33602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or Grammar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533520" y="2286000"/>
            <a:ext cx="78483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mbers o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f length 2: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533520" y="2743200"/>
            <a:ext cx="80769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T*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339933"/>
                </a:solidFill>
                <a:uFillTx/>
                <a:latin typeface="Times New Roman"/>
              </a:rPr>
              <a:t>(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rot="5400000">
            <a:off x="2247480" y="2628720"/>
            <a:ext cx="228600" cy="1219320"/>
          </a:xfrm>
          <a:custGeom>
            <a:avLst/>
            <a:gdLst>
              <a:gd name="textAreaLeft" fmla="*/ 0 w 228600"/>
              <a:gd name="textAreaRight" fmla="*/ 8244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rot="5400000">
            <a:off x="4609440" y="2628720"/>
            <a:ext cx="152640" cy="1143000"/>
          </a:xfrm>
          <a:custGeom>
            <a:avLst/>
            <a:gdLst>
              <a:gd name="textAreaLeft" fmla="*/ 0 w 152640"/>
              <a:gd name="textAreaRight" fmla="*/ 55080 w 15264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rot="5400000">
            <a:off x="6857280" y="2666880"/>
            <a:ext cx="152640" cy="1066680"/>
          </a:xfrm>
          <a:custGeom>
            <a:avLst/>
            <a:gdLst>
              <a:gd name="textAreaLeft" fmla="*/ 0 w 152640"/>
              <a:gd name="textAreaRight" fmla="*/ 55080 w 15264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1108440" y="3276720"/>
            <a:ext cx="22629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+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698640" y="3276720"/>
            <a:ext cx="22215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*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6137280" y="3276720"/>
            <a:ext cx="21837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09480" y="3809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33520" y="3809880"/>
            <a:ext cx="78483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mbers o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f length 3: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33520" y="4267080"/>
            <a:ext cx="80769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+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T*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339933"/>
                </a:solidFill>
                <a:uFillTx/>
                <a:latin typeface="Times New Roman"/>
              </a:rPr>
              <a:t>(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1" lang="en-US" sz="2400" spc="-1" strike="noStrike" u="sng">
                <a:solidFill>
                  <a:srgbClr val="339933"/>
                </a:solidFill>
                <a:uFillTx/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rot="5400000">
            <a:off x="2247480" y="4152960"/>
            <a:ext cx="228600" cy="1219320"/>
          </a:xfrm>
          <a:custGeom>
            <a:avLst/>
            <a:gdLst>
              <a:gd name="textAreaLeft" fmla="*/ 0 w 228600"/>
              <a:gd name="textAreaRight" fmla="*/ 8244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rot="5400000">
            <a:off x="4609800" y="4152960"/>
            <a:ext cx="152280" cy="1143000"/>
          </a:xfrm>
          <a:custGeom>
            <a:avLst/>
            <a:gdLst>
              <a:gd name="textAreaLeft" fmla="*/ 0 w 152280"/>
              <a:gd name="textAreaRight" fmla="*/ 55080 w 1522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rot="5400000">
            <a:off x="6857640" y="4191120"/>
            <a:ext cx="152280" cy="1066680"/>
          </a:xfrm>
          <a:custGeom>
            <a:avLst/>
            <a:gdLst>
              <a:gd name="textAreaLeft" fmla="*/ 0 w 152280"/>
              <a:gd name="textAreaRight" fmla="*/ 55080 w 1522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008000" y="4800600"/>
            <a:ext cx="24656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+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588840" y="4800600"/>
            <a:ext cx="24426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*F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6081840" y="4800600"/>
            <a:ext cx="22935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609480" y="5334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33520" y="52578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533520" y="5715000"/>
            <a:ext cx="822960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G’expr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30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E+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T*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E+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T*F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57200" y="121932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60948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"/>
          <p:cNvSpPr/>
          <p:nvPr/>
        </p:nvSpPr>
        <p:spPr>
          <a:xfrm>
            <a:off x="60948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533520" y="1905120"/>
            <a:ext cx="777240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d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33520" y="2895480"/>
            <a:ext cx="8610480" cy="42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:=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ur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G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:=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pply the following rule until n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set can be change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x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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</a:t>
            </a:r>
            <a:r>
              <a:rPr b="1" i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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x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ur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to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x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33520" y="1143000"/>
            <a:ext cx="807696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the set of items  defined by the following algorithm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533520" y="1143000"/>
            <a:ext cx="83818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533520" y="2286000"/>
            <a:ext cx="79246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+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*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09480" y="3124080"/>
            <a:ext cx="8534520" cy="10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: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2" name=""/>
          <p:cNvGrpSpPr/>
          <p:nvPr/>
        </p:nvGrpSpPr>
        <p:grpSpPr>
          <a:xfrm>
            <a:off x="685800" y="3657600"/>
            <a:ext cx="7772400" cy="1333080"/>
            <a:chOff x="685800" y="3657600"/>
            <a:chExt cx="7772400" cy="1333080"/>
          </a:xfrm>
        </p:grpSpPr>
        <p:sp>
          <p:nvSpPr>
            <p:cNvPr id="883" name=""/>
            <p:cNvSpPr/>
            <p:nvPr/>
          </p:nvSpPr>
          <p:spPr>
            <a:xfrm>
              <a:off x="685800" y="411480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4" name=""/>
            <p:cNvGrpSpPr/>
            <p:nvPr/>
          </p:nvGrpSpPr>
          <p:grpSpPr>
            <a:xfrm>
              <a:off x="838080" y="3657600"/>
              <a:ext cx="304560" cy="304560"/>
              <a:chOff x="838080" y="3657600"/>
              <a:chExt cx="304560" cy="304560"/>
            </a:xfrm>
          </p:grpSpPr>
          <p:sp>
            <p:nvSpPr>
              <p:cNvPr id="885" name=""/>
              <p:cNvSpPr/>
              <p:nvPr/>
            </p:nvSpPr>
            <p:spPr>
              <a:xfrm>
                <a:off x="838080" y="38606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flipV="1">
                <a:off x="939600" y="36576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7" name=""/>
          <p:cNvGrpSpPr/>
          <p:nvPr/>
        </p:nvGrpSpPr>
        <p:grpSpPr>
          <a:xfrm>
            <a:off x="685800" y="3657600"/>
            <a:ext cx="7772400" cy="2171160"/>
            <a:chOff x="685800" y="3657600"/>
            <a:chExt cx="7772400" cy="2171160"/>
          </a:xfrm>
        </p:grpSpPr>
        <p:sp>
          <p:nvSpPr>
            <p:cNvPr id="888" name=""/>
            <p:cNvSpPr/>
            <p:nvPr/>
          </p:nvSpPr>
          <p:spPr>
            <a:xfrm>
              <a:off x="685800" y="495288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+T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+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9" name=""/>
            <p:cNvGrpSpPr/>
            <p:nvPr/>
          </p:nvGrpSpPr>
          <p:grpSpPr>
            <a:xfrm>
              <a:off x="1981080" y="3657600"/>
              <a:ext cx="304560" cy="304560"/>
              <a:chOff x="1981080" y="3657600"/>
              <a:chExt cx="304560" cy="304560"/>
            </a:xfrm>
          </p:grpSpPr>
          <p:sp>
            <p:nvSpPr>
              <p:cNvPr id="890" name=""/>
              <p:cNvSpPr/>
              <p:nvPr/>
            </p:nvSpPr>
            <p:spPr>
              <a:xfrm>
                <a:off x="1981080" y="38606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flipV="1">
                <a:off x="2082600" y="36576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2" name=""/>
          <p:cNvGrpSpPr/>
          <p:nvPr/>
        </p:nvGrpSpPr>
        <p:grpSpPr>
          <a:xfrm>
            <a:off x="685800" y="3657600"/>
            <a:ext cx="7772400" cy="3085560"/>
            <a:chOff x="685800" y="3657600"/>
            <a:chExt cx="7772400" cy="3085560"/>
          </a:xfrm>
        </p:grpSpPr>
        <p:sp>
          <p:nvSpPr>
            <p:cNvPr id="893" name=""/>
            <p:cNvSpPr/>
            <p:nvPr/>
          </p:nvSpPr>
          <p:spPr>
            <a:xfrm>
              <a:off x="685800" y="586728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4" name=""/>
            <p:cNvGrpSpPr/>
            <p:nvPr/>
          </p:nvGrpSpPr>
          <p:grpSpPr>
            <a:xfrm>
              <a:off x="3429000" y="3657600"/>
              <a:ext cx="304560" cy="304560"/>
              <a:chOff x="3429000" y="3657600"/>
              <a:chExt cx="304560" cy="304560"/>
            </a:xfrm>
          </p:grpSpPr>
          <p:sp>
            <p:nvSpPr>
              <p:cNvPr id="895" name=""/>
              <p:cNvSpPr/>
              <p:nvPr/>
            </p:nvSpPr>
            <p:spPr>
              <a:xfrm>
                <a:off x="3429000" y="38606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flipV="1">
                <a:off x="3530520" y="36576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609480" y="1600200"/>
            <a:ext cx="85345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0" name=""/>
          <p:cNvGrpSpPr/>
          <p:nvPr/>
        </p:nvGrpSpPr>
        <p:grpSpPr>
          <a:xfrm>
            <a:off x="838080" y="2133360"/>
            <a:ext cx="304560" cy="304560"/>
            <a:chOff x="838080" y="2133360"/>
            <a:chExt cx="304560" cy="304560"/>
          </a:xfrm>
        </p:grpSpPr>
        <p:sp>
          <p:nvSpPr>
            <p:cNvPr id="901" name=""/>
            <p:cNvSpPr/>
            <p:nvPr/>
          </p:nvSpPr>
          <p:spPr>
            <a:xfrm>
              <a:off x="838080" y="2336400"/>
              <a:ext cx="10152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V="1">
              <a:off x="939600" y="2133360"/>
              <a:ext cx="203040" cy="30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3" name=""/>
          <p:cNvGrpSpPr/>
          <p:nvPr/>
        </p:nvGrpSpPr>
        <p:grpSpPr>
          <a:xfrm>
            <a:off x="1981080" y="2133360"/>
            <a:ext cx="304560" cy="304560"/>
            <a:chOff x="1981080" y="2133360"/>
            <a:chExt cx="304560" cy="304560"/>
          </a:xfrm>
        </p:grpSpPr>
        <p:sp>
          <p:nvSpPr>
            <p:cNvPr id="904" name=""/>
            <p:cNvSpPr/>
            <p:nvPr/>
          </p:nvSpPr>
          <p:spPr>
            <a:xfrm>
              <a:off x="1981080" y="2336400"/>
              <a:ext cx="10152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V="1">
              <a:off x="2082600" y="2133360"/>
              <a:ext cx="203040" cy="30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6" name=""/>
          <p:cNvGrpSpPr/>
          <p:nvPr/>
        </p:nvGrpSpPr>
        <p:grpSpPr>
          <a:xfrm>
            <a:off x="3352680" y="2133360"/>
            <a:ext cx="304560" cy="304560"/>
            <a:chOff x="3352680" y="2133360"/>
            <a:chExt cx="304560" cy="304560"/>
          </a:xfrm>
        </p:grpSpPr>
        <p:sp>
          <p:nvSpPr>
            <p:cNvPr id="907" name=""/>
            <p:cNvSpPr/>
            <p:nvPr/>
          </p:nvSpPr>
          <p:spPr>
            <a:xfrm>
              <a:off x="3352680" y="2336400"/>
              <a:ext cx="10152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V="1">
              <a:off x="3454200" y="2133360"/>
              <a:ext cx="203040" cy="30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9" name=""/>
          <p:cNvGrpSpPr/>
          <p:nvPr/>
        </p:nvGrpSpPr>
        <p:grpSpPr>
          <a:xfrm>
            <a:off x="685800" y="2133360"/>
            <a:ext cx="7772400" cy="1257120"/>
            <a:chOff x="685800" y="2133360"/>
            <a:chExt cx="7772400" cy="1257120"/>
          </a:xfrm>
        </p:grpSpPr>
        <p:sp>
          <p:nvSpPr>
            <p:cNvPr id="910" name=""/>
            <p:cNvSpPr/>
            <p:nvPr/>
          </p:nvSpPr>
          <p:spPr>
            <a:xfrm>
              <a:off x="685800" y="251460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*F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*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1" name=""/>
            <p:cNvGrpSpPr/>
            <p:nvPr/>
          </p:nvGrpSpPr>
          <p:grpSpPr>
            <a:xfrm>
              <a:off x="4419360" y="2133360"/>
              <a:ext cx="304560" cy="304560"/>
              <a:chOff x="4419360" y="2133360"/>
              <a:chExt cx="304560" cy="304560"/>
            </a:xfrm>
          </p:grpSpPr>
          <p:sp>
            <p:nvSpPr>
              <p:cNvPr id="912" name=""/>
              <p:cNvSpPr/>
              <p:nvPr/>
            </p:nvSpPr>
            <p:spPr>
              <a:xfrm>
                <a:off x="4419360" y="233640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flipV="1">
                <a:off x="4520880" y="2133360"/>
                <a:ext cx="203040" cy="304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14" name=""/>
          <p:cNvGrpSpPr/>
          <p:nvPr/>
        </p:nvGrpSpPr>
        <p:grpSpPr>
          <a:xfrm>
            <a:off x="685800" y="2133720"/>
            <a:ext cx="7772400" cy="2095200"/>
            <a:chOff x="685800" y="2133720"/>
            <a:chExt cx="7772400" cy="2095200"/>
          </a:xfrm>
        </p:grpSpPr>
        <p:sp>
          <p:nvSpPr>
            <p:cNvPr id="915" name=""/>
            <p:cNvSpPr/>
            <p:nvPr/>
          </p:nvSpPr>
          <p:spPr>
            <a:xfrm>
              <a:off x="685800" y="335304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6" name=""/>
            <p:cNvGrpSpPr/>
            <p:nvPr/>
          </p:nvGrpSpPr>
          <p:grpSpPr>
            <a:xfrm>
              <a:off x="5715000" y="2133720"/>
              <a:ext cx="304200" cy="304560"/>
              <a:chOff x="5715000" y="2133720"/>
              <a:chExt cx="304200" cy="304560"/>
            </a:xfrm>
          </p:grpSpPr>
          <p:sp>
            <p:nvSpPr>
              <p:cNvPr id="917" name=""/>
              <p:cNvSpPr/>
              <p:nvPr/>
            </p:nvSpPr>
            <p:spPr>
              <a:xfrm>
                <a:off x="5715000" y="233676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flipV="1">
                <a:off x="5816520" y="213372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19" name=""/>
          <p:cNvGrpSpPr/>
          <p:nvPr/>
        </p:nvGrpSpPr>
        <p:grpSpPr>
          <a:xfrm>
            <a:off x="685800" y="2133720"/>
            <a:ext cx="7772400" cy="3375360"/>
            <a:chOff x="685800" y="2133720"/>
            <a:chExt cx="7772400" cy="3375360"/>
          </a:xfrm>
        </p:grpSpPr>
        <p:sp>
          <p:nvSpPr>
            <p:cNvPr id="920" name=""/>
            <p:cNvSpPr/>
            <p:nvPr/>
          </p:nvSpPr>
          <p:spPr>
            <a:xfrm>
              <a:off x="685800" y="4267440"/>
              <a:ext cx="7772400" cy="12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) = 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1" name=""/>
            <p:cNvGrpSpPr/>
            <p:nvPr/>
          </p:nvGrpSpPr>
          <p:grpSpPr>
            <a:xfrm>
              <a:off x="6781680" y="2133720"/>
              <a:ext cx="304560" cy="304560"/>
              <a:chOff x="6781680" y="2133720"/>
              <a:chExt cx="304560" cy="304560"/>
            </a:xfrm>
          </p:grpSpPr>
          <p:sp>
            <p:nvSpPr>
              <p:cNvPr id="922" name=""/>
              <p:cNvSpPr/>
              <p:nvPr/>
            </p:nvSpPr>
            <p:spPr>
              <a:xfrm>
                <a:off x="6781680" y="233676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flipV="1">
                <a:off x="6883200" y="213372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24" name=""/>
          <p:cNvGrpSpPr/>
          <p:nvPr/>
        </p:nvGrpSpPr>
        <p:grpSpPr>
          <a:xfrm>
            <a:off x="685800" y="2133360"/>
            <a:ext cx="7772400" cy="4228920"/>
            <a:chOff x="685800" y="2133360"/>
            <a:chExt cx="7772400" cy="4228920"/>
          </a:xfrm>
        </p:grpSpPr>
        <p:grpSp>
          <p:nvGrpSpPr>
            <p:cNvPr id="925" name=""/>
            <p:cNvGrpSpPr/>
            <p:nvPr/>
          </p:nvGrpSpPr>
          <p:grpSpPr>
            <a:xfrm>
              <a:off x="8001000" y="2133360"/>
              <a:ext cx="304200" cy="304560"/>
              <a:chOff x="8001000" y="2133360"/>
              <a:chExt cx="304200" cy="304560"/>
            </a:xfrm>
          </p:grpSpPr>
          <p:sp>
            <p:nvSpPr>
              <p:cNvPr id="926" name=""/>
              <p:cNvSpPr/>
              <p:nvPr/>
            </p:nvSpPr>
            <p:spPr>
              <a:xfrm>
                <a:off x="8001000" y="233640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 flipV="1">
                <a:off x="8102520" y="2133360"/>
                <a:ext cx="202680" cy="304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8" name=""/>
            <p:cNvSpPr/>
            <p:nvPr/>
          </p:nvSpPr>
          <p:spPr>
            <a:xfrm>
              <a:off x="685800" y="548640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9" name=""/>
          <p:cNvSpPr/>
          <p:nvPr/>
        </p:nvSpPr>
        <p:spPr>
          <a:xfrm rot="5400000">
            <a:off x="3946320" y="115704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9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09480" y="18288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33520" y="1143000"/>
            <a:ext cx="815328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33520" y="18288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0948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33520" y="22096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0948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33520" y="25909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0948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09480" y="3657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3520" y="2971800"/>
            <a:ext cx="822960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3520" y="36576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09480" y="4038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09480" y="44197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33520" y="4038480"/>
            <a:ext cx="8153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09480" y="4800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33520" y="44197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609480" y="51814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33520" y="480060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09480" y="55627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533520" y="518148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609480" y="5943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533520" y="55627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09480" y="63244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33520" y="594360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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6" name=""/>
          <p:cNvGrpSpPr/>
          <p:nvPr/>
        </p:nvGrpSpPr>
        <p:grpSpPr>
          <a:xfrm>
            <a:off x="304920" y="1219320"/>
            <a:ext cx="304200" cy="304560"/>
            <a:chOff x="304920" y="1219320"/>
            <a:chExt cx="304200" cy="304560"/>
          </a:xfrm>
        </p:grpSpPr>
        <p:sp>
          <p:nvSpPr>
            <p:cNvPr id="957" name=""/>
            <p:cNvSpPr/>
            <p:nvPr/>
          </p:nvSpPr>
          <p:spPr>
            <a:xfrm>
              <a:off x="304920" y="14223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 flipV="1">
              <a:off x="406080" y="12193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ttom-Up Pars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00400" y="4343400"/>
            <a:ext cx="2971800" cy="990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124080" y="4267080"/>
            <a:ext cx="31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Bottom-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43400" y="3886200"/>
            <a:ext cx="6858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3809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53080" y="3352680"/>
            <a:ext cx="4572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86400" y="3809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705720" y="3962520"/>
            <a:ext cx="167616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553080" y="388620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able(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965840" y="3352680"/>
            <a:ext cx="106668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419720" y="335268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32520" y="3352680"/>
            <a:ext cx="53496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98600" y="3352680"/>
            <a:ext cx="534960" cy="4572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817720" y="3352680"/>
            <a:ext cx="534960" cy="4572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352680" y="3352680"/>
            <a:ext cx="1067040" cy="45720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0" y="43434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315200" y="43434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772400" y="43434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0" y="44956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772400" y="44956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315200" y="44956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0" y="46483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772400" y="46483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315200" y="46483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0" y="48006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772400" y="48006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315200" y="48006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47920" y="380988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447920" y="4267080"/>
            <a:ext cx="53496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447920" y="518148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571500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47920" y="4419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4419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5400000">
            <a:off x="1547280" y="4623840"/>
            <a:ext cx="59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34290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81080" y="4038480"/>
            <a:ext cx="1219320" cy="838440"/>
          </a:xfrm>
          <a:custGeom>
            <a:avLst/>
            <a:gdLst/>
            <a:ahLst/>
            <a:rect l="l" t="t" r="r" b="b"/>
            <a:pathLst>
              <a:path w="720" h="440">
                <a:moveTo>
                  <a:pt x="720" y="432"/>
                </a:moveTo>
                <a:cubicBezTo>
                  <a:pt x="564" y="436"/>
                  <a:pt x="408" y="440"/>
                  <a:pt x="336" y="384"/>
                </a:cubicBezTo>
                <a:cubicBezTo>
                  <a:pt x="264" y="328"/>
                  <a:pt x="344" y="160"/>
                  <a:pt x="288" y="96"/>
                </a:cubicBezTo>
                <a:cubicBezTo>
                  <a:pt x="232" y="32"/>
                  <a:pt x="48" y="16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172200" y="472428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343400" y="54100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19320" y="5742000"/>
            <a:ext cx="74674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Right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par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rever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quence of rules used in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rightmost deriv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kenized sourc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10666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17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perator-precedence par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2120" y="1447920"/>
            <a:ext cx="7467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east powerful, but simple &amp; easy-to-ma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9480" y="2590920"/>
            <a:ext cx="58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del of Bottom-Up pars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0" y="51055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315200" y="51055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772400" y="51055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52578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772400" y="52578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15200" y="52578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0" y="54100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772400" y="54100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315200" y="54100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0" y="55627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72400" y="55627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315200" y="55627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18288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) LR par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2209680"/>
            <a:ext cx="7467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st power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29718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4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533520" y="1143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2" name=""/>
          <p:cNvGrpSpPr/>
          <p:nvPr/>
        </p:nvGrpSpPr>
        <p:grpSpPr>
          <a:xfrm>
            <a:off x="533520" y="1295280"/>
            <a:ext cx="7924680" cy="2135160"/>
            <a:chOff x="533520" y="1295280"/>
            <a:chExt cx="7924680" cy="2135160"/>
          </a:xfrm>
        </p:grpSpPr>
        <p:grpSp>
          <p:nvGrpSpPr>
            <p:cNvPr id="963" name=""/>
            <p:cNvGrpSpPr/>
            <p:nvPr/>
          </p:nvGrpSpPr>
          <p:grpSpPr>
            <a:xfrm>
              <a:off x="533520" y="1295280"/>
              <a:ext cx="7924680" cy="2080080"/>
              <a:chOff x="533520" y="1295280"/>
              <a:chExt cx="7924680" cy="2080080"/>
            </a:xfrm>
          </p:grpSpPr>
          <p:sp>
            <p:nvSpPr>
              <p:cNvPr id="964" name=""/>
              <p:cNvSpPr/>
              <p:nvPr/>
            </p:nvSpPr>
            <p:spPr>
              <a:xfrm>
                <a:off x="533520" y="2133720"/>
                <a:ext cx="7924680" cy="12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en-US" sz="24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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&amp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dd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osure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) =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{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}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o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ontents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65" name=""/>
              <p:cNvGrpSpPr/>
              <p:nvPr/>
            </p:nvGrpSpPr>
            <p:grpSpPr>
              <a:xfrm>
                <a:off x="4572000" y="1295280"/>
                <a:ext cx="304560" cy="304560"/>
                <a:chOff x="4572000" y="1295280"/>
                <a:chExt cx="304560" cy="304560"/>
              </a:xfrm>
            </p:grpSpPr>
            <p:sp>
              <p:nvSpPr>
                <p:cNvPr id="966" name=""/>
                <p:cNvSpPr/>
                <p:nvPr/>
              </p:nvSpPr>
              <p:spPr>
                <a:xfrm>
                  <a:off x="4572000" y="149832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 flipV="1">
                  <a:off x="4673520" y="1295280"/>
                  <a:ext cx="20304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68" name=""/>
            <p:cNvSpPr/>
            <p:nvPr/>
          </p:nvSpPr>
          <p:spPr>
            <a:xfrm>
              <a:off x="609480" y="342900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9" name=""/>
          <p:cNvSpPr/>
          <p:nvPr/>
        </p:nvSpPr>
        <p:spPr>
          <a:xfrm>
            <a:off x="533520" y="3429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0" name=""/>
          <p:cNvGrpSpPr/>
          <p:nvPr/>
        </p:nvGrpSpPr>
        <p:grpSpPr>
          <a:xfrm>
            <a:off x="533520" y="3581280"/>
            <a:ext cx="7924680" cy="2135160"/>
            <a:chOff x="533520" y="3581280"/>
            <a:chExt cx="7924680" cy="2135160"/>
          </a:xfrm>
        </p:grpSpPr>
        <p:grpSp>
          <p:nvGrpSpPr>
            <p:cNvPr id="971" name=""/>
            <p:cNvGrpSpPr/>
            <p:nvPr/>
          </p:nvGrpSpPr>
          <p:grpSpPr>
            <a:xfrm>
              <a:off x="533520" y="3581280"/>
              <a:ext cx="7924680" cy="2080080"/>
              <a:chOff x="533520" y="3581280"/>
              <a:chExt cx="7924680" cy="2080080"/>
            </a:xfrm>
          </p:grpSpPr>
          <p:sp>
            <p:nvSpPr>
              <p:cNvPr id="972" name=""/>
              <p:cNvSpPr/>
              <p:nvPr/>
            </p:nvSpPr>
            <p:spPr>
              <a:xfrm>
                <a:off x="533520" y="4419720"/>
                <a:ext cx="7924680" cy="12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en-US" sz="24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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&amp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en-US" sz="2400" spc="-1" strike="noStrike">
                    <a:solidFill>
                      <a:srgbClr val="339933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dd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osure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) =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{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}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o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ontents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&lt;</a:t>
                </a:r>
                <a:r>
                  <a:rPr b="1" i="1" lang="en-US" sz="2400" spc="-1" strike="noStrike">
                    <a:solidFill>
                      <a:srgbClr val="339933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73" name=""/>
              <p:cNvGrpSpPr/>
              <p:nvPr/>
            </p:nvGrpSpPr>
            <p:grpSpPr>
              <a:xfrm>
                <a:off x="4419720" y="3581280"/>
                <a:ext cx="304200" cy="304560"/>
                <a:chOff x="4419720" y="3581280"/>
                <a:chExt cx="304200" cy="304560"/>
              </a:xfrm>
            </p:grpSpPr>
            <p:sp>
              <p:nvSpPr>
                <p:cNvPr id="974" name=""/>
                <p:cNvSpPr/>
                <p:nvPr/>
              </p:nvSpPr>
              <p:spPr>
                <a:xfrm>
                  <a:off x="4419720" y="378432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 flipV="1">
                  <a:off x="4521240" y="3581280"/>
                  <a:ext cx="20268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76" name=""/>
            <p:cNvSpPr/>
            <p:nvPr/>
          </p:nvSpPr>
          <p:spPr>
            <a:xfrm>
              <a:off x="609480" y="571500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7" name=""/>
          <p:cNvSpPr/>
          <p:nvPr/>
        </p:nvSpPr>
        <p:spPr>
          <a:xfrm>
            <a:off x="533520" y="5715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"/>
          <p:cNvGrpSpPr/>
          <p:nvPr/>
        </p:nvGrpSpPr>
        <p:grpSpPr>
          <a:xfrm>
            <a:off x="533520" y="1295280"/>
            <a:ext cx="7619760" cy="840960"/>
            <a:chOff x="533520" y="1295280"/>
            <a:chExt cx="7619760" cy="840960"/>
          </a:xfrm>
        </p:grpSpPr>
        <p:grpSp>
          <p:nvGrpSpPr>
            <p:cNvPr id="979" name=""/>
            <p:cNvGrpSpPr/>
            <p:nvPr/>
          </p:nvGrpSpPr>
          <p:grpSpPr>
            <a:xfrm>
              <a:off x="3352680" y="1295280"/>
              <a:ext cx="304560" cy="304560"/>
              <a:chOff x="3352680" y="1295280"/>
              <a:chExt cx="304560" cy="304560"/>
            </a:xfrm>
          </p:grpSpPr>
          <p:sp>
            <p:nvSpPr>
              <p:cNvPr id="980" name=""/>
              <p:cNvSpPr/>
              <p:nvPr/>
            </p:nvSpPr>
            <p:spPr>
              <a:xfrm>
                <a:off x="3352680" y="149832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 flipV="1">
                <a:off x="3454200" y="129528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2" name=""/>
            <p:cNvSpPr/>
            <p:nvPr/>
          </p:nvSpPr>
          <p:spPr>
            <a:xfrm>
              <a:off x="533520" y="1676520"/>
              <a:ext cx="761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3" name=""/>
          <p:cNvGrpSpPr/>
          <p:nvPr/>
        </p:nvGrpSpPr>
        <p:grpSpPr>
          <a:xfrm>
            <a:off x="533520" y="3581280"/>
            <a:ext cx="7619760" cy="764640"/>
            <a:chOff x="533520" y="3581280"/>
            <a:chExt cx="7619760" cy="764640"/>
          </a:xfrm>
        </p:grpSpPr>
        <p:grpSp>
          <p:nvGrpSpPr>
            <p:cNvPr id="984" name=""/>
            <p:cNvGrpSpPr/>
            <p:nvPr/>
          </p:nvGrpSpPr>
          <p:grpSpPr>
            <a:xfrm>
              <a:off x="3352680" y="3581280"/>
              <a:ext cx="304560" cy="304560"/>
              <a:chOff x="3352680" y="3581280"/>
              <a:chExt cx="304560" cy="304560"/>
            </a:xfrm>
          </p:grpSpPr>
          <p:sp>
            <p:nvSpPr>
              <p:cNvPr id="985" name=""/>
              <p:cNvSpPr/>
              <p:nvPr/>
            </p:nvSpPr>
            <p:spPr>
              <a:xfrm>
                <a:off x="3352680" y="378432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flipV="1">
                <a:off x="3454200" y="358128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"/>
            <p:cNvSpPr/>
            <p:nvPr/>
          </p:nvSpPr>
          <p:spPr>
            <a:xfrm>
              <a:off x="533520" y="3886200"/>
              <a:ext cx="761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8" name=""/>
          <p:cNvGrpSpPr/>
          <p:nvPr/>
        </p:nvGrpSpPr>
        <p:grpSpPr>
          <a:xfrm>
            <a:off x="533520" y="5867280"/>
            <a:ext cx="7848360" cy="839880"/>
            <a:chOff x="533520" y="5867280"/>
            <a:chExt cx="7848360" cy="839880"/>
          </a:xfrm>
        </p:grpSpPr>
        <p:sp>
          <p:nvSpPr>
            <p:cNvPr id="989" name=""/>
            <p:cNvSpPr/>
            <p:nvPr/>
          </p:nvSpPr>
          <p:spPr>
            <a:xfrm>
              <a:off x="609480" y="67057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0" name=""/>
            <p:cNvGrpSpPr/>
            <p:nvPr/>
          </p:nvGrpSpPr>
          <p:grpSpPr>
            <a:xfrm>
              <a:off x="533520" y="5867280"/>
              <a:ext cx="7619760" cy="764640"/>
              <a:chOff x="533520" y="5867280"/>
              <a:chExt cx="7619760" cy="764640"/>
            </a:xfrm>
          </p:grpSpPr>
          <p:grpSp>
            <p:nvGrpSpPr>
              <p:cNvPr id="991" name=""/>
              <p:cNvGrpSpPr/>
              <p:nvPr/>
            </p:nvGrpSpPr>
            <p:grpSpPr>
              <a:xfrm>
                <a:off x="3352680" y="5867280"/>
                <a:ext cx="304560" cy="304560"/>
                <a:chOff x="3352680" y="5867280"/>
                <a:chExt cx="304560" cy="304560"/>
              </a:xfrm>
            </p:grpSpPr>
            <p:sp>
              <p:nvSpPr>
                <p:cNvPr id="992" name=""/>
                <p:cNvSpPr/>
                <p:nvPr/>
              </p:nvSpPr>
              <p:spPr>
                <a:xfrm>
                  <a:off x="3352680" y="607032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 flipV="1">
                  <a:off x="3454200" y="5867280"/>
                  <a:ext cx="20304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4" name=""/>
              <p:cNvSpPr/>
              <p:nvPr/>
            </p:nvSpPr>
            <p:spPr>
              <a:xfrm>
                <a:off x="533520" y="6172200"/>
                <a:ext cx="7619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: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5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1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533520" y="1143000"/>
            <a:ext cx="8610480" cy="7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8" name=""/>
          <p:cNvGrpSpPr/>
          <p:nvPr/>
        </p:nvGrpSpPr>
        <p:grpSpPr>
          <a:xfrm>
            <a:off x="609480" y="1600200"/>
            <a:ext cx="8229600" cy="1180800"/>
            <a:chOff x="609480" y="1600200"/>
            <a:chExt cx="8229600" cy="1180800"/>
          </a:xfrm>
        </p:grpSpPr>
        <p:sp>
          <p:nvSpPr>
            <p:cNvPr id="999" name=""/>
            <p:cNvSpPr/>
            <p:nvPr/>
          </p:nvSpPr>
          <p:spPr>
            <a:xfrm>
              <a:off x="609480" y="190512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0" name=""/>
            <p:cNvGrpSpPr/>
            <p:nvPr/>
          </p:nvGrpSpPr>
          <p:grpSpPr>
            <a:xfrm>
              <a:off x="762120" y="1600200"/>
              <a:ext cx="304200" cy="304560"/>
              <a:chOff x="762120" y="1600200"/>
              <a:chExt cx="304200" cy="304560"/>
            </a:xfrm>
          </p:grpSpPr>
          <p:sp>
            <p:nvSpPr>
              <p:cNvPr id="1001" name=""/>
              <p:cNvSpPr/>
              <p:nvPr/>
            </p:nvSpPr>
            <p:spPr>
              <a:xfrm>
                <a:off x="7621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 flipV="1">
                <a:off x="8636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3" name=""/>
          <p:cNvGrpSpPr/>
          <p:nvPr/>
        </p:nvGrpSpPr>
        <p:grpSpPr>
          <a:xfrm>
            <a:off x="609480" y="1600200"/>
            <a:ext cx="8229600" cy="2018880"/>
            <a:chOff x="609480" y="1600200"/>
            <a:chExt cx="8229600" cy="2018880"/>
          </a:xfrm>
        </p:grpSpPr>
        <p:grpSp>
          <p:nvGrpSpPr>
            <p:cNvPr id="1004" name=""/>
            <p:cNvGrpSpPr/>
            <p:nvPr/>
          </p:nvGrpSpPr>
          <p:grpSpPr>
            <a:xfrm>
              <a:off x="1981080" y="1600200"/>
              <a:ext cx="304560" cy="304560"/>
              <a:chOff x="1981080" y="1600200"/>
              <a:chExt cx="304560" cy="304560"/>
            </a:xfrm>
          </p:grpSpPr>
          <p:sp>
            <p:nvSpPr>
              <p:cNvPr id="1005" name=""/>
              <p:cNvSpPr/>
              <p:nvPr/>
            </p:nvSpPr>
            <p:spPr>
              <a:xfrm>
                <a:off x="198108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 flipV="1">
                <a:off x="2082600" y="16002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7" name=""/>
            <p:cNvSpPr/>
            <p:nvPr/>
          </p:nvSpPr>
          <p:spPr>
            <a:xfrm>
              <a:off x="609480" y="274320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+T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+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 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8" name=""/>
          <p:cNvGrpSpPr/>
          <p:nvPr/>
        </p:nvGrpSpPr>
        <p:grpSpPr>
          <a:xfrm>
            <a:off x="609480" y="1600200"/>
            <a:ext cx="8229600" cy="2491200"/>
            <a:chOff x="609480" y="1600200"/>
            <a:chExt cx="8229600" cy="2491200"/>
          </a:xfrm>
        </p:grpSpPr>
        <p:sp>
          <p:nvSpPr>
            <p:cNvPr id="1009" name=""/>
            <p:cNvSpPr/>
            <p:nvPr/>
          </p:nvSpPr>
          <p:spPr>
            <a:xfrm>
              <a:off x="609480" y="358128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0" name=""/>
            <p:cNvGrpSpPr/>
            <p:nvPr/>
          </p:nvGrpSpPr>
          <p:grpSpPr>
            <a:xfrm>
              <a:off x="3352680" y="1600200"/>
              <a:ext cx="304560" cy="304560"/>
              <a:chOff x="3352680" y="1600200"/>
              <a:chExt cx="304560" cy="304560"/>
            </a:xfrm>
          </p:grpSpPr>
          <p:sp>
            <p:nvSpPr>
              <p:cNvPr id="1011" name=""/>
              <p:cNvSpPr/>
              <p:nvPr/>
            </p:nvSpPr>
            <p:spPr>
              <a:xfrm>
                <a:off x="335268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flipV="1">
                <a:off x="3454200" y="16002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13" name=""/>
          <p:cNvGrpSpPr/>
          <p:nvPr/>
        </p:nvGrpSpPr>
        <p:grpSpPr>
          <a:xfrm>
            <a:off x="609480" y="1600200"/>
            <a:ext cx="8229600" cy="2872440"/>
            <a:chOff x="609480" y="1600200"/>
            <a:chExt cx="8229600" cy="2872440"/>
          </a:xfrm>
        </p:grpSpPr>
        <p:sp>
          <p:nvSpPr>
            <p:cNvPr id="1014" name=""/>
            <p:cNvSpPr/>
            <p:nvPr/>
          </p:nvSpPr>
          <p:spPr>
            <a:xfrm>
              <a:off x="609480" y="396252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*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5" name=""/>
            <p:cNvGrpSpPr/>
            <p:nvPr/>
          </p:nvGrpSpPr>
          <p:grpSpPr>
            <a:xfrm>
              <a:off x="4419720" y="1600200"/>
              <a:ext cx="304200" cy="304560"/>
              <a:chOff x="4419720" y="1600200"/>
              <a:chExt cx="304200" cy="304560"/>
            </a:xfrm>
          </p:grpSpPr>
          <p:sp>
            <p:nvSpPr>
              <p:cNvPr id="1016" name=""/>
              <p:cNvSpPr/>
              <p:nvPr/>
            </p:nvSpPr>
            <p:spPr>
              <a:xfrm>
                <a:off x="44197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 flipV="1">
                <a:off x="45212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18" name=""/>
          <p:cNvGrpSpPr/>
          <p:nvPr/>
        </p:nvGrpSpPr>
        <p:grpSpPr>
          <a:xfrm>
            <a:off x="609480" y="1600200"/>
            <a:ext cx="8229600" cy="3253320"/>
            <a:chOff x="609480" y="1600200"/>
            <a:chExt cx="8229600" cy="3253320"/>
          </a:xfrm>
        </p:grpSpPr>
        <p:sp>
          <p:nvSpPr>
            <p:cNvPr id="1019" name=""/>
            <p:cNvSpPr/>
            <p:nvPr/>
          </p:nvSpPr>
          <p:spPr>
            <a:xfrm>
              <a:off x="609480" y="434340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0" name=""/>
            <p:cNvGrpSpPr/>
            <p:nvPr/>
          </p:nvGrpSpPr>
          <p:grpSpPr>
            <a:xfrm>
              <a:off x="5791320" y="1600200"/>
              <a:ext cx="304200" cy="304560"/>
              <a:chOff x="5791320" y="1600200"/>
              <a:chExt cx="304200" cy="304560"/>
            </a:xfrm>
          </p:grpSpPr>
          <p:sp>
            <p:nvSpPr>
              <p:cNvPr id="1021" name=""/>
              <p:cNvSpPr/>
              <p:nvPr/>
            </p:nvSpPr>
            <p:spPr>
              <a:xfrm>
                <a:off x="57913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 flipV="1">
                <a:off x="58928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3" name=""/>
          <p:cNvGrpSpPr/>
          <p:nvPr/>
        </p:nvGrpSpPr>
        <p:grpSpPr>
          <a:xfrm>
            <a:off x="609480" y="1600200"/>
            <a:ext cx="8229600" cy="3634200"/>
            <a:chOff x="609480" y="1600200"/>
            <a:chExt cx="8229600" cy="3634200"/>
          </a:xfrm>
        </p:grpSpPr>
        <p:sp>
          <p:nvSpPr>
            <p:cNvPr id="1024" name=""/>
            <p:cNvSpPr/>
            <p:nvPr/>
          </p:nvSpPr>
          <p:spPr>
            <a:xfrm>
              <a:off x="609480" y="472428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5" name=""/>
            <p:cNvGrpSpPr/>
            <p:nvPr/>
          </p:nvGrpSpPr>
          <p:grpSpPr>
            <a:xfrm>
              <a:off x="6781680" y="1600200"/>
              <a:ext cx="304560" cy="304560"/>
              <a:chOff x="6781680" y="1600200"/>
              <a:chExt cx="304560" cy="304560"/>
            </a:xfrm>
          </p:grpSpPr>
          <p:sp>
            <p:nvSpPr>
              <p:cNvPr id="1026" name=""/>
              <p:cNvSpPr/>
              <p:nvPr/>
            </p:nvSpPr>
            <p:spPr>
              <a:xfrm>
                <a:off x="678168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flipV="1">
                <a:off x="6883200" y="16002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8" name=""/>
          <p:cNvSpPr/>
          <p:nvPr/>
        </p:nvSpPr>
        <p:spPr>
          <a:xfrm>
            <a:off x="609480" y="56386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9" name=""/>
          <p:cNvGrpSpPr/>
          <p:nvPr/>
        </p:nvGrpSpPr>
        <p:grpSpPr>
          <a:xfrm>
            <a:off x="609480" y="5790960"/>
            <a:ext cx="7848720" cy="839880"/>
            <a:chOff x="609480" y="5790960"/>
            <a:chExt cx="7848720" cy="839880"/>
          </a:xfrm>
        </p:grpSpPr>
        <p:sp>
          <p:nvSpPr>
            <p:cNvPr id="1030" name=""/>
            <p:cNvSpPr/>
            <p:nvPr/>
          </p:nvSpPr>
          <p:spPr>
            <a:xfrm>
              <a:off x="685800" y="662940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1" name=""/>
            <p:cNvGrpSpPr/>
            <p:nvPr/>
          </p:nvGrpSpPr>
          <p:grpSpPr>
            <a:xfrm>
              <a:off x="609480" y="5790960"/>
              <a:ext cx="7620120" cy="764640"/>
              <a:chOff x="609480" y="5790960"/>
              <a:chExt cx="7620120" cy="764640"/>
            </a:xfrm>
          </p:grpSpPr>
          <p:grpSp>
            <p:nvGrpSpPr>
              <p:cNvPr id="1032" name=""/>
              <p:cNvGrpSpPr/>
              <p:nvPr/>
            </p:nvGrpSpPr>
            <p:grpSpPr>
              <a:xfrm>
                <a:off x="3200400" y="5790960"/>
                <a:ext cx="304560" cy="304560"/>
                <a:chOff x="3200400" y="5790960"/>
                <a:chExt cx="304560" cy="304560"/>
              </a:xfrm>
            </p:grpSpPr>
            <p:sp>
              <p:nvSpPr>
                <p:cNvPr id="1033" name=""/>
                <p:cNvSpPr/>
                <p:nvPr/>
              </p:nvSpPr>
              <p:spPr>
                <a:xfrm>
                  <a:off x="3200400" y="599400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 flipV="1">
                  <a:off x="3301920" y="5790960"/>
                  <a:ext cx="203040" cy="304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5" name=""/>
              <p:cNvSpPr/>
              <p:nvPr/>
            </p:nvSpPr>
            <p:spPr>
              <a:xfrm>
                <a:off x="609480" y="6095880"/>
                <a:ext cx="7620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: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36" name=""/>
          <p:cNvGrpSpPr/>
          <p:nvPr/>
        </p:nvGrpSpPr>
        <p:grpSpPr>
          <a:xfrm>
            <a:off x="609480" y="1600200"/>
            <a:ext cx="8229600" cy="4040280"/>
            <a:chOff x="609480" y="1600200"/>
            <a:chExt cx="8229600" cy="4040280"/>
          </a:xfrm>
        </p:grpSpPr>
        <p:grpSp>
          <p:nvGrpSpPr>
            <p:cNvPr id="1037" name=""/>
            <p:cNvGrpSpPr/>
            <p:nvPr/>
          </p:nvGrpSpPr>
          <p:grpSpPr>
            <a:xfrm>
              <a:off x="609480" y="1600200"/>
              <a:ext cx="8229600" cy="4015440"/>
              <a:chOff x="609480" y="1600200"/>
              <a:chExt cx="8229600" cy="4015440"/>
            </a:xfrm>
          </p:grpSpPr>
          <p:sp>
            <p:nvSpPr>
              <p:cNvPr id="1038" name=""/>
              <p:cNvSpPr/>
              <p:nvPr/>
            </p:nvSpPr>
            <p:spPr>
              <a:xfrm>
                <a:off x="609480" y="5105520"/>
                <a:ext cx="8229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 </a:t>
                </a:r>
                <a:r>
                  <a:rPr b="1" lang="en-US" sz="24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</a:t>
                </a:r>
                <a:r>
                  <a:rPr b="1" i="1" lang="en-US" sz="24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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u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 </a:t>
                </a:r>
                <a:r>
                  <a:rPr b="1" lang="en-US" sz="24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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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39" name=""/>
              <p:cNvGrpSpPr/>
              <p:nvPr/>
            </p:nvGrpSpPr>
            <p:grpSpPr>
              <a:xfrm>
                <a:off x="8077320" y="1600200"/>
                <a:ext cx="304200" cy="304560"/>
                <a:chOff x="8077320" y="1600200"/>
                <a:chExt cx="304200" cy="304560"/>
              </a:xfrm>
            </p:grpSpPr>
            <p:sp>
              <p:nvSpPr>
                <p:cNvPr id="1040" name=""/>
                <p:cNvSpPr/>
                <p:nvPr/>
              </p:nvSpPr>
              <p:spPr>
                <a:xfrm>
                  <a:off x="8077320" y="180324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 flipV="1">
                  <a:off x="8178840" y="1600200"/>
                  <a:ext cx="20268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42" name=""/>
            <p:cNvSpPr/>
            <p:nvPr/>
          </p:nvSpPr>
          <p:spPr>
            <a:xfrm>
              <a:off x="685800" y="5638680"/>
              <a:ext cx="777240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6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09480" y="18288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533520" y="1143000"/>
            <a:ext cx="815328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33520" y="18288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0948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33520" y="22096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0948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33520" y="25909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0948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609480" y="3657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33520" y="2971800"/>
            <a:ext cx="822960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33520" y="36576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609480" y="4038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609480" y="4724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533520" y="4038480"/>
            <a:ext cx="815328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09480" y="51055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533520" y="472428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609480" y="54864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533520" y="51055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609480" y="5867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33520" y="548640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09480" y="62485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533520" y="586728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609480" y="66294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533520" y="62485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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9" name=""/>
          <p:cNvGrpSpPr/>
          <p:nvPr/>
        </p:nvGrpSpPr>
        <p:grpSpPr>
          <a:xfrm>
            <a:off x="304920" y="1219320"/>
            <a:ext cx="304200" cy="304560"/>
            <a:chOff x="304920" y="1219320"/>
            <a:chExt cx="304200" cy="304560"/>
          </a:xfrm>
        </p:grpSpPr>
        <p:sp>
          <p:nvSpPr>
            <p:cNvPr id="1070" name=""/>
            <p:cNvSpPr/>
            <p:nvPr/>
          </p:nvSpPr>
          <p:spPr>
            <a:xfrm>
              <a:off x="304920" y="14223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V="1">
              <a:off x="406080" y="12193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2" name=""/>
          <p:cNvGrpSpPr/>
          <p:nvPr/>
        </p:nvGrpSpPr>
        <p:grpSpPr>
          <a:xfrm>
            <a:off x="304920" y="1905120"/>
            <a:ext cx="304200" cy="304560"/>
            <a:chOff x="304920" y="1905120"/>
            <a:chExt cx="304200" cy="304560"/>
          </a:xfrm>
        </p:grpSpPr>
        <p:sp>
          <p:nvSpPr>
            <p:cNvPr id="1073" name=""/>
            <p:cNvSpPr/>
            <p:nvPr/>
          </p:nvSpPr>
          <p:spPr>
            <a:xfrm>
              <a:off x="304920" y="21081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V="1">
              <a:off x="406080" y="19051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5" name=""/>
          <p:cNvGrpSpPr/>
          <p:nvPr/>
        </p:nvGrpSpPr>
        <p:grpSpPr>
          <a:xfrm>
            <a:off x="304920" y="2285640"/>
            <a:ext cx="304200" cy="305280"/>
            <a:chOff x="304920" y="2285640"/>
            <a:chExt cx="304200" cy="305280"/>
          </a:xfrm>
        </p:grpSpPr>
        <p:sp>
          <p:nvSpPr>
            <p:cNvPr id="1076" name=""/>
            <p:cNvSpPr/>
            <p:nvPr/>
          </p:nvSpPr>
          <p:spPr>
            <a:xfrm>
              <a:off x="304920" y="24894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flipV="1">
              <a:off x="406080" y="22856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8" name=""/>
          <p:cNvGrpSpPr/>
          <p:nvPr/>
        </p:nvGrpSpPr>
        <p:grpSpPr>
          <a:xfrm>
            <a:off x="304920" y="2590920"/>
            <a:ext cx="304200" cy="304560"/>
            <a:chOff x="304920" y="2590920"/>
            <a:chExt cx="304200" cy="304560"/>
          </a:xfrm>
        </p:grpSpPr>
        <p:sp>
          <p:nvSpPr>
            <p:cNvPr id="1079" name=""/>
            <p:cNvSpPr/>
            <p:nvPr/>
          </p:nvSpPr>
          <p:spPr>
            <a:xfrm>
              <a:off x="304920" y="27939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V="1">
              <a:off x="406080" y="25909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1" name=""/>
          <p:cNvGrpSpPr/>
          <p:nvPr/>
        </p:nvGrpSpPr>
        <p:grpSpPr>
          <a:xfrm>
            <a:off x="304920" y="2971440"/>
            <a:ext cx="304200" cy="305280"/>
            <a:chOff x="304920" y="2971440"/>
            <a:chExt cx="304200" cy="305280"/>
          </a:xfrm>
        </p:grpSpPr>
        <p:sp>
          <p:nvSpPr>
            <p:cNvPr id="1082" name=""/>
            <p:cNvSpPr/>
            <p:nvPr/>
          </p:nvSpPr>
          <p:spPr>
            <a:xfrm>
              <a:off x="304920" y="31752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V="1">
              <a:off x="406080" y="29714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4" name=""/>
          <p:cNvGrpSpPr/>
          <p:nvPr/>
        </p:nvGrpSpPr>
        <p:grpSpPr>
          <a:xfrm>
            <a:off x="304920" y="3733920"/>
            <a:ext cx="304200" cy="304560"/>
            <a:chOff x="304920" y="3733920"/>
            <a:chExt cx="304200" cy="304560"/>
          </a:xfrm>
        </p:grpSpPr>
        <p:sp>
          <p:nvSpPr>
            <p:cNvPr id="1085" name=""/>
            <p:cNvSpPr/>
            <p:nvPr/>
          </p:nvSpPr>
          <p:spPr>
            <a:xfrm>
              <a:off x="304920" y="39369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 flipV="1">
              <a:off x="406080" y="37339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7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533520" y="1143000"/>
            <a:ext cx="8305560" cy="10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0" name=""/>
          <p:cNvGrpSpPr/>
          <p:nvPr/>
        </p:nvGrpSpPr>
        <p:grpSpPr>
          <a:xfrm>
            <a:off x="609480" y="1600200"/>
            <a:ext cx="8229600" cy="1180800"/>
            <a:chOff x="609480" y="1600200"/>
            <a:chExt cx="8229600" cy="1180800"/>
          </a:xfrm>
        </p:grpSpPr>
        <p:sp>
          <p:nvSpPr>
            <p:cNvPr id="1091" name=""/>
            <p:cNvSpPr/>
            <p:nvPr/>
          </p:nvSpPr>
          <p:spPr>
            <a:xfrm>
              <a:off x="609480" y="190512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2" name=""/>
            <p:cNvGrpSpPr/>
            <p:nvPr/>
          </p:nvGrpSpPr>
          <p:grpSpPr>
            <a:xfrm>
              <a:off x="762120" y="1600200"/>
              <a:ext cx="304200" cy="304560"/>
              <a:chOff x="762120" y="1600200"/>
              <a:chExt cx="304200" cy="304560"/>
            </a:xfrm>
          </p:grpSpPr>
          <p:sp>
            <p:nvSpPr>
              <p:cNvPr id="1093" name=""/>
              <p:cNvSpPr/>
              <p:nvPr/>
            </p:nvSpPr>
            <p:spPr>
              <a:xfrm>
                <a:off x="7621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 flipV="1">
                <a:off x="8636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95" name=""/>
          <p:cNvGrpSpPr/>
          <p:nvPr/>
        </p:nvGrpSpPr>
        <p:grpSpPr>
          <a:xfrm>
            <a:off x="609480" y="1600200"/>
            <a:ext cx="8229600" cy="2018880"/>
            <a:chOff x="609480" y="1600200"/>
            <a:chExt cx="8229600" cy="2018880"/>
          </a:xfrm>
        </p:grpSpPr>
        <p:grpSp>
          <p:nvGrpSpPr>
            <p:cNvPr id="1096" name=""/>
            <p:cNvGrpSpPr/>
            <p:nvPr/>
          </p:nvGrpSpPr>
          <p:grpSpPr>
            <a:xfrm>
              <a:off x="2133720" y="1600200"/>
              <a:ext cx="304200" cy="304560"/>
              <a:chOff x="2133720" y="1600200"/>
              <a:chExt cx="304200" cy="304560"/>
            </a:xfrm>
          </p:grpSpPr>
          <p:sp>
            <p:nvSpPr>
              <p:cNvPr id="1097" name=""/>
              <p:cNvSpPr/>
              <p:nvPr/>
            </p:nvSpPr>
            <p:spPr>
              <a:xfrm>
                <a:off x="21337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 flipV="1">
                <a:off x="22352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9" name=""/>
            <p:cNvSpPr/>
            <p:nvPr/>
          </p:nvSpPr>
          <p:spPr>
            <a:xfrm>
              <a:off x="609480" y="274320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*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*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 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0" name=""/>
          <p:cNvGrpSpPr/>
          <p:nvPr/>
        </p:nvGrpSpPr>
        <p:grpSpPr>
          <a:xfrm>
            <a:off x="609480" y="1600200"/>
            <a:ext cx="8229600" cy="2415240"/>
            <a:chOff x="609480" y="1600200"/>
            <a:chExt cx="8229600" cy="2415240"/>
          </a:xfrm>
        </p:grpSpPr>
        <p:sp>
          <p:nvSpPr>
            <p:cNvPr id="1101" name=""/>
            <p:cNvSpPr/>
            <p:nvPr/>
          </p:nvSpPr>
          <p:spPr>
            <a:xfrm>
              <a:off x="609480" y="350532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2" name=""/>
            <p:cNvGrpSpPr/>
            <p:nvPr/>
          </p:nvGrpSpPr>
          <p:grpSpPr>
            <a:xfrm>
              <a:off x="3505320" y="1600200"/>
              <a:ext cx="304200" cy="304560"/>
              <a:chOff x="3505320" y="1600200"/>
              <a:chExt cx="304200" cy="304560"/>
            </a:xfrm>
          </p:grpSpPr>
          <p:sp>
            <p:nvSpPr>
              <p:cNvPr id="1103" name=""/>
              <p:cNvSpPr/>
              <p:nvPr/>
            </p:nvSpPr>
            <p:spPr>
              <a:xfrm>
                <a:off x="35053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 flipV="1">
                <a:off x="36068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05" name=""/>
          <p:cNvGrpSpPr/>
          <p:nvPr/>
        </p:nvGrpSpPr>
        <p:grpSpPr>
          <a:xfrm>
            <a:off x="609480" y="1600200"/>
            <a:ext cx="8229600" cy="2796120"/>
            <a:chOff x="609480" y="1600200"/>
            <a:chExt cx="8229600" cy="2796120"/>
          </a:xfrm>
        </p:grpSpPr>
        <p:sp>
          <p:nvSpPr>
            <p:cNvPr id="1106" name=""/>
            <p:cNvSpPr/>
            <p:nvPr/>
          </p:nvSpPr>
          <p:spPr>
            <a:xfrm>
              <a:off x="609480" y="388620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7" name=""/>
            <p:cNvGrpSpPr/>
            <p:nvPr/>
          </p:nvGrpSpPr>
          <p:grpSpPr>
            <a:xfrm>
              <a:off x="4495680" y="1600200"/>
              <a:ext cx="304560" cy="304560"/>
              <a:chOff x="4495680" y="1600200"/>
              <a:chExt cx="304560" cy="304560"/>
            </a:xfrm>
          </p:grpSpPr>
          <p:sp>
            <p:nvSpPr>
              <p:cNvPr id="1108" name=""/>
              <p:cNvSpPr/>
              <p:nvPr/>
            </p:nvSpPr>
            <p:spPr>
              <a:xfrm>
                <a:off x="449568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 flipV="1">
                <a:off x="4597200" y="16002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10" name=""/>
          <p:cNvGrpSpPr/>
          <p:nvPr/>
        </p:nvGrpSpPr>
        <p:grpSpPr>
          <a:xfrm>
            <a:off x="609480" y="1600200"/>
            <a:ext cx="8229600" cy="3177000"/>
            <a:chOff x="609480" y="1600200"/>
            <a:chExt cx="8229600" cy="3177000"/>
          </a:xfrm>
        </p:grpSpPr>
        <p:grpSp>
          <p:nvGrpSpPr>
            <p:cNvPr id="1111" name=""/>
            <p:cNvGrpSpPr/>
            <p:nvPr/>
          </p:nvGrpSpPr>
          <p:grpSpPr>
            <a:xfrm>
              <a:off x="609480" y="1600200"/>
              <a:ext cx="8229600" cy="3177000"/>
              <a:chOff x="609480" y="1600200"/>
              <a:chExt cx="8229600" cy="3177000"/>
            </a:xfrm>
          </p:grpSpPr>
          <p:sp>
            <p:nvSpPr>
              <p:cNvPr id="1112" name=""/>
              <p:cNvSpPr/>
              <p:nvPr/>
            </p:nvSpPr>
            <p:spPr>
              <a:xfrm>
                <a:off x="609480" y="4267080"/>
                <a:ext cx="8229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+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u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+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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13" name=""/>
              <p:cNvGrpSpPr/>
              <p:nvPr/>
            </p:nvGrpSpPr>
            <p:grpSpPr>
              <a:xfrm>
                <a:off x="5715000" y="1600200"/>
                <a:ext cx="304560" cy="304560"/>
                <a:chOff x="5715000" y="1600200"/>
                <a:chExt cx="304560" cy="304560"/>
              </a:xfrm>
            </p:grpSpPr>
            <p:sp>
              <p:nvSpPr>
                <p:cNvPr id="1114" name=""/>
                <p:cNvSpPr/>
                <p:nvPr/>
              </p:nvSpPr>
              <p:spPr>
                <a:xfrm>
                  <a:off x="5715000" y="180324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 flipV="1">
                  <a:off x="5816520" y="1600200"/>
                  <a:ext cx="20304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16" name=""/>
            <p:cNvSpPr/>
            <p:nvPr/>
          </p:nvSpPr>
          <p:spPr>
            <a:xfrm>
              <a:off x="685800" y="4724280"/>
              <a:ext cx="777240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7" name=""/>
          <p:cNvSpPr/>
          <p:nvPr/>
        </p:nvSpPr>
        <p:spPr>
          <a:xfrm>
            <a:off x="609480" y="47242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8" name=""/>
          <p:cNvGrpSpPr/>
          <p:nvPr/>
        </p:nvGrpSpPr>
        <p:grpSpPr>
          <a:xfrm>
            <a:off x="609480" y="4876560"/>
            <a:ext cx="8229600" cy="1104840"/>
            <a:chOff x="609480" y="4876560"/>
            <a:chExt cx="8229600" cy="1104840"/>
          </a:xfrm>
        </p:grpSpPr>
        <p:sp>
          <p:nvSpPr>
            <p:cNvPr id="1119" name=""/>
            <p:cNvSpPr/>
            <p:nvPr/>
          </p:nvSpPr>
          <p:spPr>
            <a:xfrm>
              <a:off x="609480" y="510552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*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*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*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0" name=""/>
            <p:cNvGrpSpPr/>
            <p:nvPr/>
          </p:nvGrpSpPr>
          <p:grpSpPr>
            <a:xfrm>
              <a:off x="3429000" y="4876560"/>
              <a:ext cx="304560" cy="304560"/>
              <a:chOff x="3429000" y="4876560"/>
              <a:chExt cx="304560" cy="304560"/>
            </a:xfrm>
          </p:grpSpPr>
          <p:sp>
            <p:nvSpPr>
              <p:cNvPr id="1121" name=""/>
              <p:cNvSpPr/>
              <p:nvPr/>
            </p:nvSpPr>
            <p:spPr>
              <a:xfrm>
                <a:off x="3429000" y="507960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 flipV="1">
                <a:off x="3530520" y="4876560"/>
                <a:ext cx="203040" cy="304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23" name=""/>
          <p:cNvGrpSpPr/>
          <p:nvPr/>
        </p:nvGrpSpPr>
        <p:grpSpPr>
          <a:xfrm>
            <a:off x="609480" y="4876560"/>
            <a:ext cx="8229600" cy="1500840"/>
            <a:chOff x="609480" y="4876560"/>
            <a:chExt cx="8229600" cy="1500840"/>
          </a:xfrm>
        </p:grpSpPr>
        <p:sp>
          <p:nvSpPr>
            <p:cNvPr id="1124" name=""/>
            <p:cNvSpPr/>
            <p:nvPr/>
          </p:nvSpPr>
          <p:spPr>
            <a:xfrm>
              <a:off x="609480" y="586728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*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*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5" name=""/>
            <p:cNvGrpSpPr/>
            <p:nvPr/>
          </p:nvGrpSpPr>
          <p:grpSpPr>
            <a:xfrm>
              <a:off x="4800600" y="4876560"/>
              <a:ext cx="304560" cy="304560"/>
              <a:chOff x="4800600" y="4876560"/>
              <a:chExt cx="304560" cy="304560"/>
            </a:xfrm>
          </p:grpSpPr>
          <p:sp>
            <p:nvSpPr>
              <p:cNvPr id="1126" name=""/>
              <p:cNvSpPr/>
              <p:nvPr/>
            </p:nvSpPr>
            <p:spPr>
              <a:xfrm>
                <a:off x="4800600" y="507960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 flipV="1">
                <a:off x="4902120" y="4876560"/>
                <a:ext cx="203040" cy="304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28" name=""/>
          <p:cNvGrpSpPr/>
          <p:nvPr/>
        </p:nvGrpSpPr>
        <p:grpSpPr>
          <a:xfrm>
            <a:off x="609480" y="4876560"/>
            <a:ext cx="8229600" cy="1882080"/>
            <a:chOff x="609480" y="4876560"/>
            <a:chExt cx="8229600" cy="1882080"/>
          </a:xfrm>
        </p:grpSpPr>
        <p:grpSp>
          <p:nvGrpSpPr>
            <p:cNvPr id="1129" name=""/>
            <p:cNvGrpSpPr/>
            <p:nvPr/>
          </p:nvGrpSpPr>
          <p:grpSpPr>
            <a:xfrm>
              <a:off x="609480" y="4876560"/>
              <a:ext cx="8229600" cy="1882080"/>
              <a:chOff x="609480" y="4876560"/>
              <a:chExt cx="8229600" cy="1882080"/>
            </a:xfrm>
          </p:grpSpPr>
          <p:sp>
            <p:nvSpPr>
              <p:cNvPr id="1130" name=""/>
              <p:cNvSpPr/>
              <p:nvPr/>
            </p:nvSpPr>
            <p:spPr>
              <a:xfrm>
                <a:off x="609480" y="6248520"/>
                <a:ext cx="8229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T*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u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T*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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31" name=""/>
              <p:cNvGrpSpPr/>
              <p:nvPr/>
            </p:nvGrpSpPr>
            <p:grpSpPr>
              <a:xfrm>
                <a:off x="6019920" y="4876560"/>
                <a:ext cx="304200" cy="304560"/>
                <a:chOff x="6019920" y="4876560"/>
                <a:chExt cx="304200" cy="304560"/>
              </a:xfrm>
            </p:grpSpPr>
            <p:sp>
              <p:nvSpPr>
                <p:cNvPr id="1132" name=""/>
                <p:cNvSpPr/>
                <p:nvPr/>
              </p:nvSpPr>
              <p:spPr>
                <a:xfrm>
                  <a:off x="6019920" y="507960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 flipV="1">
                  <a:off x="6121440" y="4876560"/>
                  <a:ext cx="202680" cy="304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34" name=""/>
            <p:cNvSpPr/>
            <p:nvPr/>
          </p:nvSpPr>
          <p:spPr>
            <a:xfrm>
              <a:off x="685800" y="67057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8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4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33520" y="1143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8" name=""/>
          <p:cNvGrpSpPr/>
          <p:nvPr/>
        </p:nvGrpSpPr>
        <p:grpSpPr>
          <a:xfrm>
            <a:off x="533520" y="1295280"/>
            <a:ext cx="8229600" cy="1180800"/>
            <a:chOff x="533520" y="1295280"/>
            <a:chExt cx="8229600" cy="1180800"/>
          </a:xfrm>
        </p:grpSpPr>
        <p:sp>
          <p:nvSpPr>
            <p:cNvPr id="1139" name=""/>
            <p:cNvSpPr/>
            <p:nvPr/>
          </p:nvSpPr>
          <p:spPr>
            <a:xfrm>
              <a:off x="533520" y="160020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cs-CZ" sz="2400" spc="-1" strike="noStrike">
                  <a:solidFill>
                    <a:srgbClr val="339933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cs-CZ" sz="2400" spc="-1" strike="noStrike">
                  <a:solidFill>
                    <a:srgbClr val="339933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lang="cs-CZ" sz="2400" spc="-1" strike="noStrike">
                  <a:solidFill>
                    <a:srgbClr val="339933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0" name=""/>
            <p:cNvGrpSpPr/>
            <p:nvPr/>
          </p:nvGrpSpPr>
          <p:grpSpPr>
            <a:xfrm>
              <a:off x="3352680" y="1295280"/>
              <a:ext cx="304560" cy="304560"/>
              <a:chOff x="3352680" y="1295280"/>
              <a:chExt cx="304560" cy="304560"/>
            </a:xfrm>
          </p:grpSpPr>
          <p:sp>
            <p:nvSpPr>
              <p:cNvPr id="1141" name=""/>
              <p:cNvSpPr/>
              <p:nvPr/>
            </p:nvSpPr>
            <p:spPr>
              <a:xfrm>
                <a:off x="3352680" y="149832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 flipV="1">
                <a:off x="3454200" y="129528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43" name=""/>
          <p:cNvGrpSpPr/>
          <p:nvPr/>
        </p:nvGrpSpPr>
        <p:grpSpPr>
          <a:xfrm>
            <a:off x="533520" y="1295280"/>
            <a:ext cx="8229600" cy="1577160"/>
            <a:chOff x="533520" y="1295280"/>
            <a:chExt cx="8229600" cy="1577160"/>
          </a:xfrm>
        </p:grpSpPr>
        <p:grpSp>
          <p:nvGrpSpPr>
            <p:cNvPr id="1144" name=""/>
            <p:cNvGrpSpPr/>
            <p:nvPr/>
          </p:nvGrpSpPr>
          <p:grpSpPr>
            <a:xfrm>
              <a:off x="533520" y="1295280"/>
              <a:ext cx="8229600" cy="1577160"/>
              <a:chOff x="533520" y="1295280"/>
              <a:chExt cx="8229600" cy="1577160"/>
            </a:xfrm>
          </p:grpSpPr>
          <p:sp>
            <p:nvSpPr>
              <p:cNvPr id="1145" name=""/>
              <p:cNvSpPr/>
              <p:nvPr/>
            </p:nvSpPr>
            <p:spPr>
              <a:xfrm>
                <a:off x="533520" y="2362320"/>
                <a:ext cx="8229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(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u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(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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46" name=""/>
              <p:cNvGrpSpPr/>
              <p:nvPr/>
            </p:nvGrpSpPr>
            <p:grpSpPr>
              <a:xfrm>
                <a:off x="4724280" y="1295280"/>
                <a:ext cx="304560" cy="304560"/>
                <a:chOff x="4724280" y="1295280"/>
                <a:chExt cx="304560" cy="304560"/>
              </a:xfrm>
            </p:grpSpPr>
            <p:sp>
              <p:nvSpPr>
                <p:cNvPr id="1147" name=""/>
                <p:cNvSpPr/>
                <p:nvPr/>
              </p:nvSpPr>
              <p:spPr>
                <a:xfrm>
                  <a:off x="4724280" y="149832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 flipV="1">
                  <a:off x="4825800" y="1295280"/>
                  <a:ext cx="20304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49" name=""/>
            <p:cNvSpPr/>
            <p:nvPr/>
          </p:nvSpPr>
          <p:spPr>
            <a:xfrm>
              <a:off x="609480" y="28195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0" name=""/>
          <p:cNvSpPr/>
          <p:nvPr/>
        </p:nvSpPr>
        <p:spPr>
          <a:xfrm>
            <a:off x="533520" y="2819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1" name=""/>
          <p:cNvGrpSpPr/>
          <p:nvPr/>
        </p:nvGrpSpPr>
        <p:grpSpPr>
          <a:xfrm>
            <a:off x="533520" y="2971800"/>
            <a:ext cx="8229600" cy="764640"/>
            <a:chOff x="533520" y="2971800"/>
            <a:chExt cx="8229600" cy="764640"/>
          </a:xfrm>
        </p:grpSpPr>
        <p:sp>
          <p:nvSpPr>
            <p:cNvPr id="1152" name=""/>
            <p:cNvSpPr/>
            <p:nvPr/>
          </p:nvSpPr>
          <p:spPr>
            <a:xfrm>
              <a:off x="533520" y="3276720"/>
              <a:ext cx="822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3" name=""/>
            <p:cNvGrpSpPr/>
            <p:nvPr/>
          </p:nvGrpSpPr>
          <p:grpSpPr>
            <a:xfrm>
              <a:off x="3581280" y="2971800"/>
              <a:ext cx="304560" cy="304560"/>
              <a:chOff x="3581280" y="2971800"/>
              <a:chExt cx="304560" cy="304560"/>
            </a:xfrm>
          </p:grpSpPr>
          <p:sp>
            <p:nvSpPr>
              <p:cNvPr id="1154" name=""/>
              <p:cNvSpPr/>
              <p:nvPr/>
            </p:nvSpPr>
            <p:spPr>
              <a:xfrm>
                <a:off x="3581280" y="31748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 flipV="1">
                <a:off x="3682800" y="29718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6" name=""/>
          <p:cNvGrpSpPr/>
          <p:nvPr/>
        </p:nvGrpSpPr>
        <p:grpSpPr>
          <a:xfrm>
            <a:off x="533520" y="2971800"/>
            <a:ext cx="8229600" cy="1220760"/>
            <a:chOff x="533520" y="2971800"/>
            <a:chExt cx="8229600" cy="1220760"/>
          </a:xfrm>
        </p:grpSpPr>
        <p:grpSp>
          <p:nvGrpSpPr>
            <p:cNvPr id="1157" name=""/>
            <p:cNvGrpSpPr/>
            <p:nvPr/>
          </p:nvGrpSpPr>
          <p:grpSpPr>
            <a:xfrm>
              <a:off x="533520" y="2971800"/>
              <a:ext cx="8229600" cy="1195920"/>
              <a:chOff x="533520" y="2971800"/>
              <a:chExt cx="8229600" cy="1195920"/>
            </a:xfrm>
          </p:grpSpPr>
          <p:sp>
            <p:nvSpPr>
              <p:cNvPr id="1158" name=""/>
              <p:cNvSpPr/>
              <p:nvPr/>
            </p:nvSpPr>
            <p:spPr>
              <a:xfrm>
                <a:off x="533520" y="3657600"/>
                <a:ext cx="8229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+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T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u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+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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59" name=""/>
              <p:cNvGrpSpPr/>
              <p:nvPr/>
            </p:nvGrpSpPr>
            <p:grpSpPr>
              <a:xfrm>
                <a:off x="5105520" y="2971800"/>
                <a:ext cx="304200" cy="304560"/>
                <a:chOff x="5105520" y="2971800"/>
                <a:chExt cx="304200" cy="304560"/>
              </a:xfrm>
            </p:grpSpPr>
            <p:sp>
              <p:nvSpPr>
                <p:cNvPr id="1160" name=""/>
                <p:cNvSpPr/>
                <p:nvPr/>
              </p:nvSpPr>
              <p:spPr>
                <a:xfrm>
                  <a:off x="5105520" y="317484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 flipV="1">
                  <a:off x="5207040" y="2971800"/>
                  <a:ext cx="20268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62" name=""/>
            <p:cNvSpPr/>
            <p:nvPr/>
          </p:nvSpPr>
          <p:spPr>
            <a:xfrm>
              <a:off x="609480" y="41911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3" name=""/>
          <p:cNvSpPr/>
          <p:nvPr/>
        </p:nvSpPr>
        <p:spPr>
          <a:xfrm>
            <a:off x="533520" y="4191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4" name=""/>
          <p:cNvGrpSpPr/>
          <p:nvPr/>
        </p:nvGrpSpPr>
        <p:grpSpPr>
          <a:xfrm>
            <a:off x="533520" y="4343400"/>
            <a:ext cx="8229600" cy="764640"/>
            <a:chOff x="533520" y="4343400"/>
            <a:chExt cx="8229600" cy="764640"/>
          </a:xfrm>
        </p:grpSpPr>
        <p:grpSp>
          <p:nvGrpSpPr>
            <p:cNvPr id="1165" name=""/>
            <p:cNvGrpSpPr/>
            <p:nvPr/>
          </p:nvGrpSpPr>
          <p:grpSpPr>
            <a:xfrm>
              <a:off x="533520" y="4343400"/>
              <a:ext cx="8229600" cy="764640"/>
              <a:chOff x="533520" y="4343400"/>
              <a:chExt cx="8229600" cy="764640"/>
            </a:xfrm>
          </p:grpSpPr>
          <p:sp>
            <p:nvSpPr>
              <p:cNvPr id="1166" name=""/>
              <p:cNvSpPr/>
              <p:nvPr/>
            </p:nvSpPr>
            <p:spPr>
              <a:xfrm>
                <a:off x="533520" y="4648320"/>
                <a:ext cx="8229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*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: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67" name=""/>
              <p:cNvGrpSpPr/>
              <p:nvPr/>
            </p:nvGrpSpPr>
            <p:grpSpPr>
              <a:xfrm>
                <a:off x="3733920" y="4343400"/>
                <a:ext cx="304200" cy="304560"/>
                <a:chOff x="3733920" y="4343400"/>
                <a:chExt cx="304200" cy="304560"/>
              </a:xfrm>
            </p:grpSpPr>
            <p:sp>
              <p:nvSpPr>
                <p:cNvPr id="1168" name=""/>
                <p:cNvSpPr/>
                <p:nvPr/>
              </p:nvSpPr>
              <p:spPr>
                <a:xfrm>
                  <a:off x="3733920" y="454644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 flipV="1">
                  <a:off x="3835440" y="4343400"/>
                  <a:ext cx="20268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70" name=""/>
            <p:cNvSpPr/>
            <p:nvPr/>
          </p:nvSpPr>
          <p:spPr>
            <a:xfrm>
              <a:off x="609480" y="51055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1" name=""/>
          <p:cNvSpPr/>
          <p:nvPr/>
        </p:nvSpPr>
        <p:spPr>
          <a:xfrm>
            <a:off x="533520" y="5105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2" name=""/>
          <p:cNvGrpSpPr/>
          <p:nvPr/>
        </p:nvGrpSpPr>
        <p:grpSpPr>
          <a:xfrm>
            <a:off x="533520" y="5257800"/>
            <a:ext cx="8229600" cy="764640"/>
            <a:chOff x="533520" y="5257800"/>
            <a:chExt cx="8229600" cy="764640"/>
          </a:xfrm>
        </p:grpSpPr>
        <p:grpSp>
          <p:nvGrpSpPr>
            <p:cNvPr id="1173" name=""/>
            <p:cNvGrpSpPr/>
            <p:nvPr/>
          </p:nvGrpSpPr>
          <p:grpSpPr>
            <a:xfrm>
              <a:off x="533520" y="5257800"/>
              <a:ext cx="8229600" cy="764640"/>
              <a:chOff x="533520" y="5257800"/>
              <a:chExt cx="8229600" cy="764640"/>
            </a:xfrm>
          </p:grpSpPr>
          <p:sp>
            <p:nvSpPr>
              <p:cNvPr id="1174" name=""/>
              <p:cNvSpPr/>
              <p:nvPr/>
            </p:nvSpPr>
            <p:spPr>
              <a:xfrm>
                <a:off x="533520" y="5562720"/>
                <a:ext cx="8229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: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75" name=""/>
              <p:cNvGrpSpPr/>
              <p:nvPr/>
            </p:nvGrpSpPr>
            <p:grpSpPr>
              <a:xfrm>
                <a:off x="3581280" y="5257800"/>
                <a:ext cx="304560" cy="304560"/>
                <a:chOff x="3581280" y="5257800"/>
                <a:chExt cx="304560" cy="304560"/>
              </a:xfrm>
            </p:grpSpPr>
            <p:sp>
              <p:nvSpPr>
                <p:cNvPr id="1176" name=""/>
                <p:cNvSpPr/>
                <p:nvPr/>
              </p:nvSpPr>
              <p:spPr>
                <a:xfrm>
                  <a:off x="3581280" y="546084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 flipV="1">
                  <a:off x="3682800" y="5257800"/>
                  <a:ext cx="20304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78" name=""/>
            <p:cNvSpPr/>
            <p:nvPr/>
          </p:nvSpPr>
          <p:spPr>
            <a:xfrm>
              <a:off x="609480" y="60199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9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609480" y="18288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533520" y="1143000"/>
            <a:ext cx="815328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533520" y="18288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60948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33520" y="22096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60948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533520" y="25909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60948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609480" y="3657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533520" y="2971800"/>
            <a:ext cx="822960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533520" y="36576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609480" y="4038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609480" y="4724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533520" y="4038480"/>
            <a:ext cx="815328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609480" y="51055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533520" y="472428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609480" y="54864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533520" y="51055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609480" y="5867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533520" y="548640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609480" y="62485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533520" y="586728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609480" y="66294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533520" y="62485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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5" name=""/>
          <p:cNvGrpSpPr/>
          <p:nvPr/>
        </p:nvGrpSpPr>
        <p:grpSpPr>
          <a:xfrm>
            <a:off x="304920" y="1219320"/>
            <a:ext cx="304200" cy="304560"/>
            <a:chOff x="304920" y="1219320"/>
            <a:chExt cx="304200" cy="304560"/>
          </a:xfrm>
        </p:grpSpPr>
        <p:sp>
          <p:nvSpPr>
            <p:cNvPr id="1206" name=""/>
            <p:cNvSpPr/>
            <p:nvPr/>
          </p:nvSpPr>
          <p:spPr>
            <a:xfrm>
              <a:off x="304920" y="14223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 flipV="1">
              <a:off x="406080" y="12193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8" name=""/>
          <p:cNvGrpSpPr/>
          <p:nvPr/>
        </p:nvGrpSpPr>
        <p:grpSpPr>
          <a:xfrm>
            <a:off x="304920" y="1905120"/>
            <a:ext cx="304200" cy="304560"/>
            <a:chOff x="304920" y="1905120"/>
            <a:chExt cx="304200" cy="304560"/>
          </a:xfrm>
        </p:grpSpPr>
        <p:sp>
          <p:nvSpPr>
            <p:cNvPr id="1209" name=""/>
            <p:cNvSpPr/>
            <p:nvPr/>
          </p:nvSpPr>
          <p:spPr>
            <a:xfrm>
              <a:off x="304920" y="21081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 flipV="1">
              <a:off x="406080" y="19051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1" name=""/>
          <p:cNvGrpSpPr/>
          <p:nvPr/>
        </p:nvGrpSpPr>
        <p:grpSpPr>
          <a:xfrm>
            <a:off x="304920" y="2285640"/>
            <a:ext cx="304200" cy="305280"/>
            <a:chOff x="304920" y="2285640"/>
            <a:chExt cx="304200" cy="305280"/>
          </a:xfrm>
        </p:grpSpPr>
        <p:sp>
          <p:nvSpPr>
            <p:cNvPr id="1212" name=""/>
            <p:cNvSpPr/>
            <p:nvPr/>
          </p:nvSpPr>
          <p:spPr>
            <a:xfrm>
              <a:off x="304920" y="24894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 flipV="1">
              <a:off x="406080" y="22856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4" name=""/>
          <p:cNvGrpSpPr/>
          <p:nvPr/>
        </p:nvGrpSpPr>
        <p:grpSpPr>
          <a:xfrm>
            <a:off x="304920" y="2590920"/>
            <a:ext cx="304200" cy="304560"/>
            <a:chOff x="304920" y="2590920"/>
            <a:chExt cx="304200" cy="304560"/>
          </a:xfrm>
        </p:grpSpPr>
        <p:sp>
          <p:nvSpPr>
            <p:cNvPr id="1215" name=""/>
            <p:cNvSpPr/>
            <p:nvPr/>
          </p:nvSpPr>
          <p:spPr>
            <a:xfrm>
              <a:off x="304920" y="27939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V="1">
              <a:off x="406080" y="25909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7" name=""/>
          <p:cNvGrpSpPr/>
          <p:nvPr/>
        </p:nvGrpSpPr>
        <p:grpSpPr>
          <a:xfrm>
            <a:off x="304920" y="2971440"/>
            <a:ext cx="304200" cy="305280"/>
            <a:chOff x="304920" y="2971440"/>
            <a:chExt cx="304200" cy="305280"/>
          </a:xfrm>
        </p:grpSpPr>
        <p:sp>
          <p:nvSpPr>
            <p:cNvPr id="1218" name=""/>
            <p:cNvSpPr/>
            <p:nvPr/>
          </p:nvSpPr>
          <p:spPr>
            <a:xfrm>
              <a:off x="304920" y="31752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 flipV="1">
              <a:off x="406080" y="29714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0" name=""/>
          <p:cNvGrpSpPr/>
          <p:nvPr/>
        </p:nvGrpSpPr>
        <p:grpSpPr>
          <a:xfrm>
            <a:off x="304920" y="3733920"/>
            <a:ext cx="304200" cy="304560"/>
            <a:chOff x="304920" y="3733920"/>
            <a:chExt cx="304200" cy="304560"/>
          </a:xfrm>
        </p:grpSpPr>
        <p:sp>
          <p:nvSpPr>
            <p:cNvPr id="1221" name=""/>
            <p:cNvSpPr/>
            <p:nvPr/>
          </p:nvSpPr>
          <p:spPr>
            <a:xfrm>
              <a:off x="304920" y="39369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 flipV="1">
              <a:off x="406080" y="37339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3" name=""/>
          <p:cNvGrpSpPr/>
          <p:nvPr/>
        </p:nvGrpSpPr>
        <p:grpSpPr>
          <a:xfrm>
            <a:off x="304920" y="4114440"/>
            <a:ext cx="304200" cy="305280"/>
            <a:chOff x="304920" y="4114440"/>
            <a:chExt cx="304200" cy="305280"/>
          </a:xfrm>
        </p:grpSpPr>
        <p:sp>
          <p:nvSpPr>
            <p:cNvPr id="1224" name=""/>
            <p:cNvSpPr/>
            <p:nvPr/>
          </p:nvSpPr>
          <p:spPr>
            <a:xfrm>
              <a:off x="304920" y="43182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 flipV="1">
              <a:off x="406080" y="41144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6" name=""/>
          <p:cNvGrpSpPr/>
          <p:nvPr/>
        </p:nvGrpSpPr>
        <p:grpSpPr>
          <a:xfrm>
            <a:off x="304920" y="4800240"/>
            <a:ext cx="304200" cy="305280"/>
            <a:chOff x="304920" y="4800240"/>
            <a:chExt cx="304200" cy="305280"/>
          </a:xfrm>
        </p:grpSpPr>
        <p:sp>
          <p:nvSpPr>
            <p:cNvPr id="1227" name=""/>
            <p:cNvSpPr/>
            <p:nvPr/>
          </p:nvSpPr>
          <p:spPr>
            <a:xfrm>
              <a:off x="304920" y="50040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 flipV="1">
              <a:off x="406080" y="48002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9" name=""/>
          <p:cNvGrpSpPr/>
          <p:nvPr/>
        </p:nvGrpSpPr>
        <p:grpSpPr>
          <a:xfrm>
            <a:off x="304920" y="5181120"/>
            <a:ext cx="304200" cy="305280"/>
            <a:chOff x="304920" y="5181120"/>
            <a:chExt cx="304200" cy="305280"/>
          </a:xfrm>
        </p:grpSpPr>
        <p:sp>
          <p:nvSpPr>
            <p:cNvPr id="1230" name=""/>
            <p:cNvSpPr/>
            <p:nvPr/>
          </p:nvSpPr>
          <p:spPr>
            <a:xfrm>
              <a:off x="304920" y="538488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 flipV="1">
              <a:off x="406080" y="518112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2" name=""/>
          <p:cNvGrpSpPr/>
          <p:nvPr/>
        </p:nvGrpSpPr>
        <p:grpSpPr>
          <a:xfrm>
            <a:off x="304920" y="5562720"/>
            <a:ext cx="304200" cy="304560"/>
            <a:chOff x="304920" y="5562720"/>
            <a:chExt cx="304200" cy="304560"/>
          </a:xfrm>
        </p:grpSpPr>
        <p:sp>
          <p:nvSpPr>
            <p:cNvPr id="1233" name=""/>
            <p:cNvSpPr/>
            <p:nvPr/>
          </p:nvSpPr>
          <p:spPr>
            <a:xfrm>
              <a:off x="304920" y="57657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V="1">
              <a:off x="406080" y="55627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5" name=""/>
          <p:cNvGrpSpPr/>
          <p:nvPr/>
        </p:nvGrpSpPr>
        <p:grpSpPr>
          <a:xfrm>
            <a:off x="304920" y="5943240"/>
            <a:ext cx="304200" cy="305280"/>
            <a:chOff x="304920" y="5943240"/>
            <a:chExt cx="304200" cy="305280"/>
          </a:xfrm>
        </p:grpSpPr>
        <p:sp>
          <p:nvSpPr>
            <p:cNvPr id="1236" name=""/>
            <p:cNvSpPr/>
            <p:nvPr/>
          </p:nvSpPr>
          <p:spPr>
            <a:xfrm>
              <a:off x="304920" y="61470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 flipV="1">
              <a:off x="406080" y="59432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8" name=""/>
          <p:cNvGrpSpPr/>
          <p:nvPr/>
        </p:nvGrpSpPr>
        <p:grpSpPr>
          <a:xfrm>
            <a:off x="304920" y="6324120"/>
            <a:ext cx="304200" cy="305280"/>
            <a:chOff x="304920" y="6324120"/>
            <a:chExt cx="304200" cy="305280"/>
          </a:xfrm>
        </p:grpSpPr>
        <p:sp>
          <p:nvSpPr>
            <p:cNvPr id="1239" name=""/>
            <p:cNvSpPr/>
            <p:nvPr/>
          </p:nvSpPr>
          <p:spPr>
            <a:xfrm>
              <a:off x="304920" y="652788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 flipV="1">
              <a:off x="406080" y="632412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"/>
          <p:cNvSpPr/>
          <p:nvPr/>
        </p:nvSpPr>
        <p:spPr>
          <a:xfrm>
            <a:off x="60948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533520" y="1143000"/>
            <a:ext cx="8305560" cy="11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xtende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for all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 for all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LR-table for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Action part,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Go-to par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533520" y="2286000"/>
            <a:ext cx="8610480" cy="45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sOfTabl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tarting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tat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cs-CZ" sz="26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each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ase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o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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6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low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p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a label of rule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Construction of LR-table: Algorithm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"/>
          <p:cNvSpPr/>
          <p:nvPr/>
        </p:nvSpPr>
        <p:spPr>
          <a:xfrm>
            <a:off x="685800" y="2514600"/>
            <a:ext cx="7772400" cy="30492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-table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1/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1600200" y="21337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533520" y="2514600"/>
            <a:ext cx="129528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600200" y="167652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685800" y="2514600"/>
            <a:ext cx="0" cy="327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685800" y="57913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2096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44956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304812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388620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5867280" y="1676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54100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57913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6477120" y="2514600"/>
            <a:ext cx="12189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7467480" y="2514600"/>
            <a:ext cx="10670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1752480" y="21337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      *        (        )     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622080" y="1066680"/>
            <a:ext cx="39751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able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65530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754380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8458200" y="1676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600200" y="16765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2971800" y="1523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6477120" y="15238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1752480" y="2743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1739880" y="3048120"/>
            <a:ext cx="57913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1752480" y="3809880"/>
            <a:ext cx="57913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+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+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752480" y="4572000"/>
            <a:ext cx="57913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1752480" y="5334120"/>
            <a:ext cx="57913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6248520" y="2819520"/>
            <a:ext cx="374400" cy="635040"/>
          </a:xfrm>
          <a:custGeom>
            <a:avLst/>
            <a:gdLst/>
            <a:ahLst/>
            <a:rect l="l" t="t" r="r" b="b"/>
            <a:pathLst>
              <a:path w="236" h="400">
                <a:moveTo>
                  <a:pt x="216" y="400"/>
                </a:moveTo>
                <a:cubicBezTo>
                  <a:pt x="213" y="376"/>
                  <a:pt x="236" y="331"/>
                  <a:pt x="200" y="264"/>
                </a:cubicBezTo>
                <a:cubicBezTo>
                  <a:pt x="164" y="197"/>
                  <a:pt x="42" y="55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6400800" y="2857680"/>
            <a:ext cx="757080" cy="1295280"/>
          </a:xfrm>
          <a:custGeom>
            <a:avLst/>
            <a:gdLst/>
            <a:ahLst/>
            <a:rect l="l" t="t" r="r" b="b"/>
            <a:pathLst>
              <a:path w="477" h="816">
                <a:moveTo>
                  <a:pt x="416" y="816"/>
                </a:moveTo>
                <a:cubicBezTo>
                  <a:pt x="416" y="745"/>
                  <a:pt x="477" y="528"/>
                  <a:pt x="408" y="392"/>
                </a:cubicBezTo>
                <a:cubicBezTo>
                  <a:pt x="339" y="256"/>
                  <a:pt x="85" y="82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7137360" y="2819520"/>
            <a:ext cx="639720" cy="2958840"/>
          </a:xfrm>
          <a:custGeom>
            <a:avLst/>
            <a:gdLst/>
            <a:ahLst/>
            <a:rect l="l" t="t" r="r" b="b"/>
            <a:pathLst>
              <a:path w="403" h="1864">
                <a:moveTo>
                  <a:pt x="0" y="1864"/>
                </a:moveTo>
                <a:cubicBezTo>
                  <a:pt x="63" y="1720"/>
                  <a:pt x="381" y="1311"/>
                  <a:pt x="392" y="1000"/>
                </a:cubicBezTo>
                <a:cubicBezTo>
                  <a:pt x="403" y="689"/>
                  <a:pt x="132" y="208"/>
                  <a:pt x="64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6908760" y="2819520"/>
            <a:ext cx="563760" cy="2222280"/>
          </a:xfrm>
          <a:custGeom>
            <a:avLst/>
            <a:gdLst/>
            <a:ahLst/>
            <a:rect l="l" t="t" r="r" b="b"/>
            <a:pathLst>
              <a:path w="355" h="1400">
                <a:moveTo>
                  <a:pt x="0" y="1400"/>
                </a:moveTo>
                <a:cubicBezTo>
                  <a:pt x="57" y="1337"/>
                  <a:pt x="317" y="1257"/>
                  <a:pt x="336" y="1024"/>
                </a:cubicBezTo>
                <a:cubicBezTo>
                  <a:pt x="355" y="791"/>
                  <a:pt x="159" y="213"/>
                  <a:pt x="112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1752480" y="6095880"/>
            <a:ext cx="57913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6946920" y="2895480"/>
            <a:ext cx="1471680" cy="3708360"/>
          </a:xfrm>
          <a:custGeom>
            <a:avLst/>
            <a:gdLst/>
            <a:ahLst/>
            <a:rect l="l" t="t" r="r" b="b"/>
            <a:pathLst>
              <a:path w="927" h="2336">
                <a:moveTo>
                  <a:pt x="0" y="2336"/>
                </a:moveTo>
                <a:cubicBezTo>
                  <a:pt x="135" y="2152"/>
                  <a:pt x="705" y="1621"/>
                  <a:pt x="816" y="1232"/>
                </a:cubicBezTo>
                <a:cubicBezTo>
                  <a:pt x="927" y="843"/>
                  <a:pt x="696" y="257"/>
                  <a:pt x="664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"/>
          <p:cNvSpPr/>
          <p:nvPr/>
        </p:nvSpPr>
        <p:spPr>
          <a:xfrm>
            <a:off x="685800" y="2514600"/>
            <a:ext cx="7772400" cy="30492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-table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2/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1600200" y="21337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533520" y="2514600"/>
            <a:ext cx="129528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1600200" y="167652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685800" y="2514600"/>
            <a:ext cx="0" cy="327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85800" y="57913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22096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44956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304812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88620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447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5867280" y="1676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54100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3733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57913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6477120" y="2514600"/>
            <a:ext cx="12189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7467480" y="2514600"/>
            <a:ext cx="10670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1752480" y="21337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      *        (        )     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8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622080" y="1066680"/>
            <a:ext cx="39751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able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65530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754380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8458200" y="1676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1600200" y="16765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2971800" y="1523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6477120" y="15238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1752480" y="35812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752480" y="4114800"/>
            <a:ext cx="73915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752480" y="5029200"/>
            <a:ext cx="73915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4267080" y="2895480"/>
            <a:ext cx="2565360" cy="1549440"/>
          </a:xfrm>
          <a:custGeom>
            <a:avLst/>
            <a:gdLst/>
            <a:ahLst/>
            <a:rect l="l" t="t" r="r" b="b"/>
            <a:pathLst>
              <a:path w="1616" h="976">
                <a:moveTo>
                  <a:pt x="1616" y="976"/>
                </a:moveTo>
                <a:cubicBezTo>
                  <a:pt x="1565" y="893"/>
                  <a:pt x="1581" y="643"/>
                  <a:pt x="1312" y="480"/>
                </a:cubicBezTo>
                <a:cubicBezTo>
                  <a:pt x="1043" y="317"/>
                  <a:pt x="273" y="100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1955880" y="2882880"/>
            <a:ext cx="6195960" cy="2514600"/>
          </a:xfrm>
          <a:custGeom>
            <a:avLst/>
            <a:gdLst/>
            <a:ahLst/>
            <a:rect l="l" t="t" r="r" b="b"/>
            <a:pathLst>
              <a:path w="3903" h="1584">
                <a:moveTo>
                  <a:pt x="2936" y="1584"/>
                </a:moveTo>
                <a:cubicBezTo>
                  <a:pt x="3033" y="1469"/>
                  <a:pt x="3903" y="1107"/>
                  <a:pt x="3520" y="896"/>
                </a:cubicBezTo>
                <a:cubicBezTo>
                  <a:pt x="3137" y="685"/>
                  <a:pt x="1227" y="469"/>
                  <a:pt x="640" y="320"/>
                </a:cubicBezTo>
                <a:cubicBezTo>
                  <a:pt x="53" y="171"/>
                  <a:pt x="133" y="67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"/>
          <p:cNvSpPr/>
          <p:nvPr/>
        </p:nvSpPr>
        <p:spPr>
          <a:xfrm>
            <a:off x="685800" y="2819520"/>
            <a:ext cx="7772400" cy="3045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-table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3/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1600200" y="21337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533520" y="2514600"/>
            <a:ext cx="129528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1600200" y="167652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685800" y="2514600"/>
            <a:ext cx="0" cy="327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685800" y="57913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22096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4956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304812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388620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1447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5867280" y="16765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54100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3733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57913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6477120" y="2514600"/>
            <a:ext cx="12189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7467480" y="2514600"/>
            <a:ext cx="10670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752480" y="21337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      *        (        )     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9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622080" y="1066680"/>
            <a:ext cx="39751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able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65530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754380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8458200" y="16765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1600200" y="16765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2971800" y="1523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6477120" y="15238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1752480" y="36576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1752480" y="4114800"/>
            <a:ext cx="73915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1752480" y="4876920"/>
            <a:ext cx="73915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5651640" y="3111480"/>
            <a:ext cx="1511280" cy="1015920"/>
          </a:xfrm>
          <a:custGeom>
            <a:avLst/>
            <a:gdLst/>
            <a:ahLst/>
            <a:rect l="l" t="t" r="r" b="b"/>
            <a:pathLst>
              <a:path w="896" h="640">
                <a:moveTo>
                  <a:pt x="896" y="640"/>
                </a:moveTo>
                <a:cubicBezTo>
                  <a:pt x="852" y="584"/>
                  <a:pt x="789" y="411"/>
                  <a:pt x="640" y="304"/>
                </a:cubicBezTo>
                <a:cubicBezTo>
                  <a:pt x="491" y="197"/>
                  <a:pt x="133" y="63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2755800" y="3137040"/>
            <a:ext cx="5473800" cy="2044440"/>
          </a:xfrm>
          <a:custGeom>
            <a:avLst/>
            <a:gdLst/>
            <a:ahLst/>
            <a:rect l="l" t="t" r="r" b="b"/>
            <a:pathLst>
              <a:path w="3421" h="1232">
                <a:moveTo>
                  <a:pt x="2888" y="1232"/>
                </a:moveTo>
                <a:cubicBezTo>
                  <a:pt x="2928" y="1109"/>
                  <a:pt x="3421" y="632"/>
                  <a:pt x="3128" y="488"/>
                </a:cubicBezTo>
                <a:cubicBezTo>
                  <a:pt x="2835" y="344"/>
                  <a:pt x="1649" y="449"/>
                  <a:pt x="1128" y="368"/>
                </a:cubicBezTo>
                <a:cubicBezTo>
                  <a:pt x="607" y="287"/>
                  <a:pt x="235" y="77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5257800" y="2743200"/>
            <a:ext cx="762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2133720" y="2819520"/>
            <a:ext cx="10666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rator-Precedence Pars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1143000"/>
            <a:ext cx="80010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No two distinct nonterminals have the same handl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No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-rules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345744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99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48006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38862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09680" y="3457440"/>
            <a:ext cx="533520" cy="27432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143000" y="4343400"/>
            <a:ext cx="3200400" cy="48276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495680" y="2743200"/>
            <a:ext cx="4419720" cy="544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able[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ff9933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{&l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blank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2438280"/>
            <a:ext cx="380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recedence-tab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981080"/>
            <a:ext cx="8534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CFG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9480" y="43434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52578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9933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9480" y="57150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29718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743200" y="29718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76520" y="2971800"/>
            <a:ext cx="53316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09680" y="29718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2971800"/>
            <a:ext cx="53316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9880" y="29718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143000" y="3457440"/>
            <a:ext cx="3200400" cy="2743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09680" y="4343400"/>
            <a:ext cx="533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4495680"/>
            <a:ext cx="53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724280" y="4038480"/>
            <a:ext cx="1028880" cy="366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95680" y="35053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llustration of meaning of &lt;, =, &gt;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95680" y="3505320"/>
            <a:ext cx="0" cy="28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495680" y="3505320"/>
            <a:ext cx="4038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172200" y="4038480"/>
            <a:ext cx="1028880" cy="366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543800" y="4038480"/>
            <a:ext cx="1028880" cy="366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553080" y="4495680"/>
            <a:ext cx="53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848720" y="4495680"/>
            <a:ext cx="533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2514240" y="3276720"/>
            <a:ext cx="19810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032440" y="4800600"/>
            <a:ext cx="54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632640" y="4800600"/>
            <a:ext cx="54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927920" y="4800600"/>
            <a:ext cx="54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8000640" y="5181480"/>
            <a:ext cx="1522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153280" y="51814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543800" y="5943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696080" y="5410080"/>
            <a:ext cx="53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229600" y="5410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924680" y="5791320"/>
            <a:ext cx="763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7695720" y="5791320"/>
            <a:ext cx="22860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7543800" y="5791320"/>
            <a:ext cx="38088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59436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4876920" y="5181480"/>
            <a:ext cx="3808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257800" y="51814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648320" y="5334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34120" y="5257800"/>
            <a:ext cx="533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5867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562720" y="56386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5410080" y="5638680"/>
            <a:ext cx="1526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5181120" y="563868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876920" y="5791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553080" y="5029200"/>
            <a:ext cx="53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781680" y="56386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1680" y="54100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6629040" y="5410080"/>
            <a:ext cx="1522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6400800" y="5410080"/>
            <a:ext cx="3808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477120" y="5562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72200" y="5638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2720" y="5791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772400" y="5943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"/>
          <p:cNvSpPr/>
          <p:nvPr/>
        </p:nvSpPr>
        <p:spPr>
          <a:xfrm>
            <a:off x="685800" y="3098880"/>
            <a:ext cx="7772400" cy="2667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-table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4/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1600200" y="21337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533520" y="2514600"/>
            <a:ext cx="129528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1600200" y="167652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85800" y="2514600"/>
            <a:ext cx="0" cy="327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685800" y="57913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22096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44956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304812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388620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447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5867280" y="16765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54100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3733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57913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6477120" y="2514600"/>
            <a:ext cx="12189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7467480" y="2514600"/>
            <a:ext cx="10670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1752480" y="21337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      *        (        )     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622080" y="1066680"/>
            <a:ext cx="39751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able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65530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754380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8458200" y="16765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1600200" y="16765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2971800" y="1523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6477120" y="15238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1752480" y="3657600"/>
            <a:ext cx="221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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1752480" y="4114800"/>
            <a:ext cx="7391520" cy="10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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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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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s rule with label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1752480" y="5410080"/>
            <a:ext cx="73915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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3657600" y="3352680"/>
            <a:ext cx="5275440" cy="2438640"/>
          </a:xfrm>
          <a:custGeom>
            <a:avLst/>
            <a:gdLst/>
            <a:ahLst/>
            <a:rect l="l" t="t" r="r" b="b"/>
            <a:pathLst>
              <a:path w="3323" h="1536">
                <a:moveTo>
                  <a:pt x="2416" y="1536"/>
                </a:moveTo>
                <a:cubicBezTo>
                  <a:pt x="2532" y="1357"/>
                  <a:pt x="3323" y="656"/>
                  <a:pt x="3120" y="472"/>
                </a:cubicBezTo>
                <a:cubicBezTo>
                  <a:pt x="2917" y="288"/>
                  <a:pt x="1720" y="511"/>
                  <a:pt x="1200" y="432"/>
                </a:cubicBezTo>
                <a:cubicBezTo>
                  <a:pt x="680" y="353"/>
                  <a:pt x="250" y="90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5257800" y="2743200"/>
            <a:ext cx="762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2133720" y="2819520"/>
            <a:ext cx="10666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5" name=""/>
          <p:cNvGrpSpPr/>
          <p:nvPr/>
        </p:nvGrpSpPr>
        <p:grpSpPr>
          <a:xfrm>
            <a:off x="2209680" y="3048120"/>
            <a:ext cx="3886200" cy="361800"/>
            <a:chOff x="2209680" y="3048120"/>
            <a:chExt cx="3886200" cy="361800"/>
          </a:xfrm>
        </p:grpSpPr>
        <p:sp>
          <p:nvSpPr>
            <p:cNvPr id="1386" name=""/>
            <p:cNvSpPr/>
            <p:nvPr/>
          </p:nvSpPr>
          <p:spPr>
            <a:xfrm>
              <a:off x="2209680" y="3048120"/>
              <a:ext cx="91440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9933"/>
                  </a:solidFill>
                  <a:latin typeface="Times New Roman"/>
                  <a:ea typeface="Times New Roman"/>
                </a:rPr>
                <a:t>r</a:t>
              </a:r>
              <a:r>
                <a:rPr b="1" lang="en-US" sz="22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4495680" y="3048120"/>
              <a:ext cx="91440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9933"/>
                  </a:solidFill>
                  <a:latin typeface="Times New Roman"/>
                  <a:ea typeface="Times New Roman"/>
                </a:rPr>
                <a:t>r</a:t>
              </a:r>
              <a:r>
                <a:rPr b="1" lang="en-US" sz="22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181480" y="3048120"/>
              <a:ext cx="91440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9933"/>
                  </a:solidFill>
                  <a:latin typeface="Times New Roman"/>
                  <a:ea typeface="Times New Roman"/>
                </a:rPr>
                <a:t>r</a:t>
              </a:r>
              <a:r>
                <a:rPr b="1" lang="en-US" sz="22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9" name=""/>
          <p:cNvSpPr/>
          <p:nvPr/>
        </p:nvSpPr>
        <p:spPr>
          <a:xfrm>
            <a:off x="2971800" y="3048120"/>
            <a:ext cx="10666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0" name=""/>
          <p:cNvGrpSpPr/>
          <p:nvPr/>
        </p:nvGrpSpPr>
        <p:grpSpPr>
          <a:xfrm>
            <a:off x="2641680" y="3365640"/>
            <a:ext cx="5742000" cy="1307880"/>
            <a:chOff x="2641680" y="3365640"/>
            <a:chExt cx="5742000" cy="1307880"/>
          </a:xfrm>
        </p:grpSpPr>
        <p:sp>
          <p:nvSpPr>
            <p:cNvPr id="1391" name=""/>
            <p:cNvSpPr/>
            <p:nvPr/>
          </p:nvSpPr>
          <p:spPr>
            <a:xfrm>
              <a:off x="5676840" y="3365640"/>
              <a:ext cx="2706840" cy="1307880"/>
            </a:xfrm>
            <a:custGeom>
              <a:avLst/>
              <a:gdLst/>
              <a:ahLst/>
              <a:rect l="l" t="t" r="r" b="b"/>
              <a:pathLst>
                <a:path w="1705" h="824">
                  <a:moveTo>
                    <a:pt x="640" y="824"/>
                  </a:moveTo>
                  <a:cubicBezTo>
                    <a:pt x="800" y="796"/>
                    <a:pt x="1511" y="752"/>
                    <a:pt x="1608" y="656"/>
                  </a:cubicBezTo>
                  <a:cubicBezTo>
                    <a:pt x="1705" y="560"/>
                    <a:pt x="1384" y="341"/>
                    <a:pt x="1224" y="248"/>
                  </a:cubicBezTo>
                  <a:cubicBezTo>
                    <a:pt x="1064" y="155"/>
                    <a:pt x="852" y="137"/>
                    <a:pt x="648" y="96"/>
                  </a:cubicBezTo>
                  <a:cubicBezTo>
                    <a:pt x="444" y="55"/>
                    <a:pt x="135" y="20"/>
                    <a:pt x="0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978440" y="3365640"/>
              <a:ext cx="1600200" cy="241200"/>
            </a:xfrm>
            <a:custGeom>
              <a:avLst/>
              <a:gdLst/>
              <a:ahLst/>
              <a:rect l="l" t="t" r="r" b="b"/>
              <a:pathLst>
                <a:path w="1008" h="152">
                  <a:moveTo>
                    <a:pt x="1008" y="96"/>
                  </a:moveTo>
                  <a:cubicBezTo>
                    <a:pt x="925" y="103"/>
                    <a:pt x="672" y="152"/>
                    <a:pt x="504" y="136"/>
                  </a:cubicBezTo>
                  <a:cubicBezTo>
                    <a:pt x="336" y="120"/>
                    <a:pt x="105" y="28"/>
                    <a:pt x="0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641680" y="3403440"/>
              <a:ext cx="3962160" cy="500400"/>
            </a:xfrm>
            <a:custGeom>
              <a:avLst/>
              <a:gdLst/>
              <a:ahLst/>
              <a:rect l="l" t="t" r="r" b="b"/>
              <a:pathLst>
                <a:path w="2496" h="315">
                  <a:moveTo>
                    <a:pt x="2496" y="64"/>
                  </a:moveTo>
                  <a:cubicBezTo>
                    <a:pt x="2257" y="104"/>
                    <a:pt x="1480" y="315"/>
                    <a:pt x="1064" y="304"/>
                  </a:cubicBezTo>
                  <a:cubicBezTo>
                    <a:pt x="648" y="293"/>
                    <a:pt x="222" y="63"/>
                    <a:pt x="0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4" name=""/>
          <p:cNvSpPr/>
          <p:nvPr/>
        </p:nvSpPr>
        <p:spPr>
          <a:xfrm>
            <a:off x="1752480" y="617220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onstruc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rest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nalogicall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-table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5/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1600200" y="243828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533520" y="2819520"/>
            <a:ext cx="129528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1600200" y="1828800"/>
            <a:ext cx="0" cy="426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685800" y="2819520"/>
            <a:ext cx="0" cy="32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685800" y="6095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220968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449568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304812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388620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1447920" y="2819520"/>
            <a:ext cx="914400" cy="22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2057400" y="2819520"/>
            <a:ext cx="114300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5867280" y="1828800"/>
            <a:ext cx="0" cy="426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541008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2895480" y="2819520"/>
            <a:ext cx="114300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3733920" y="2819520"/>
            <a:ext cx="914400" cy="25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4343400" y="2819520"/>
            <a:ext cx="121932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5410080" y="2819520"/>
            <a:ext cx="60984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5791320" y="2819520"/>
            <a:ext cx="91440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6477120" y="2819520"/>
            <a:ext cx="121896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7467480" y="2819520"/>
            <a:ext cx="1067040" cy="22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1752480" y="243828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      *        (        )     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1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650520" y="1143000"/>
            <a:ext cx="38898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nal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able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655308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754380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8458200" y="1828800"/>
            <a:ext cx="0" cy="426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1600200" y="182880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2971800" y="17524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6477120" y="17524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naming the 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2971800" y="213372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2971800" y="2514600"/>
            <a:ext cx="53352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34290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29718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2971800" y="251460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2971800" y="609588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38862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43434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48006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52578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3429000" y="2514600"/>
            <a:ext cx="53352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3886200" y="2514600"/>
            <a:ext cx="53352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57150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61722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4343400" y="2514600"/>
            <a:ext cx="53352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4800600" y="2514600"/>
            <a:ext cx="53352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5257800" y="2514600"/>
            <a:ext cx="609480" cy="36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5715000" y="2514600"/>
            <a:ext cx="60948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7086600" y="2514600"/>
            <a:ext cx="3049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7543800" y="2514600"/>
            <a:ext cx="304920" cy="21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8001000" y="2514600"/>
            <a:ext cx="45720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2895480" y="20574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*     (     )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6553080" y="2514600"/>
            <a:ext cx="53352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701028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55308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746748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792468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838188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 flipH="1">
            <a:off x="6553080" y="60958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 flipH="1">
            <a:off x="6553080" y="2514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6477120" y="2057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T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6553080" y="21337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2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3048120" y="1371600"/>
            <a:ext cx="441936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2895480" y="1371600"/>
            <a:ext cx="594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table for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expr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ith the renamed sta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2666880" y="1295280"/>
            <a:ext cx="0" cy="5334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762120" y="1143000"/>
            <a:ext cx="1676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Rename the state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609480" y="2438280"/>
            <a:ext cx="129564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1752480" y="2514600"/>
            <a:ext cx="53352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762120" y="2133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236232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76212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762120" y="25146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762120" y="60958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167652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762120" y="21337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Old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533520" y="1066680"/>
            <a:ext cx="84582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Precedence-table for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Right parse of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; otherwise, erro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85800" y="19810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33520" y="1981080"/>
            <a:ext cx="861048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3333cc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ush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nto the pushdown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the current token 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the topmost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termina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n the pushdow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as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able[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f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=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&amp; read next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from inpu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t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place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b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n the pushdown &amp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&amp; read next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from inpu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t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if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the p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us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ow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p string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replace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&amp; write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 outpu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blank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until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b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Operator-Precedence Parser: Algorith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Operator-Precedence Parser: Exampl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9480" y="1981080"/>
            <a:ext cx="403884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Precedence-table for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25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00200" y="27432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600200" y="3228840"/>
            <a:ext cx="2286000" cy="277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1066680"/>
            <a:ext cx="822960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7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7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7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7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7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7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1" lang="en-US" sz="27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7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7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495680" y="19810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perator associativity and precedence rules underlie the precedence t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35812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1680" y="4267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696080" y="4267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086600" y="5410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620120" y="54864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391520" y="5410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924680" y="5410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705720" y="5410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467480" y="4800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001000" y="4800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229600" y="5257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696080" y="5257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010280" y="48006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7086240" y="4038480"/>
            <a:ext cx="3049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391520" y="403848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391520" y="4038480"/>
            <a:ext cx="53316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924680" y="47242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924680" y="4724280"/>
            <a:ext cx="30492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7695720" y="4724280"/>
            <a:ext cx="2286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86400" y="3657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91320" y="4267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876920" y="4267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876920" y="5410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10080" y="5486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181480" y="5410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715000" y="5410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0" y="5410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572000" y="4800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181480" y="4800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410080" y="5257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800600" y="5257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19920" y="48006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5181480" y="411480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715000" y="41148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715000" y="411480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105520" y="47242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105520" y="4724280"/>
            <a:ext cx="30456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4800240" y="4724280"/>
            <a:ext cx="30492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981080" y="274320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362320" y="27432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743200" y="27432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124080" y="274320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505320" y="27432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219320" y="32288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219320" y="36860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219320" y="41432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219320" y="46004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219320" y="50576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219320" y="55148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60020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60020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600200" y="4538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600200" y="50259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600200" y="41274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600200" y="54990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98108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98108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81080" y="4538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81080" y="50259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81080" y="41274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981080" y="54990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36232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36232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362320" y="41274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362320" y="54990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74320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74320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743200" y="4538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743200" y="50259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43200" y="41274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12408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12408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124080" y="41274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124080" y="54990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0532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50532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505320" y="4538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505320" y="50259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219320" y="231156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put t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rot="16200000">
            <a:off x="-850320" y="4203000"/>
            <a:ext cx="365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P</a:t>
            </a:r>
            <a:r>
              <a:rPr b="1" lang="cs-CZ" sz="2200" spc="-1" strike="noStrike">
                <a:solidFill>
                  <a:srgbClr val="ff9933"/>
                </a:solidFill>
                <a:latin typeface="Times New Roman"/>
              </a:rPr>
              <a:t>ush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d</a:t>
            </a:r>
            <a:r>
              <a:rPr b="1" lang="cs-CZ" sz="2200" spc="-1" strike="noStrike">
                <a:solidFill>
                  <a:srgbClr val="ff9933"/>
                </a:solidFill>
                <a:latin typeface="Times New Roman"/>
              </a:rPr>
              <a:t>down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 topmost to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495680" y="5867280"/>
            <a:ext cx="18288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ght par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41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705720" y="5867280"/>
            <a:ext cx="18288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ght par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44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4952520" y="6629400"/>
            <a:ext cx="838440" cy="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7162920" y="6629400"/>
            <a:ext cx="838080" cy="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943600" y="46483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334120" y="51055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724280" y="5105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638680" y="41911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29200" y="47242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153280" y="5105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620120" y="51055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934320" y="51055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848720" y="47242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315200" y="40384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495680" y="1981080"/>
            <a:ext cx="0" cy="441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553080" y="32767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ght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495680" y="32767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rong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Operator-Precedence 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Parsing: Exampl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38080" y="4879800"/>
            <a:ext cx="221004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29000" y="114300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 * i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429000" y="1600200"/>
            <a:ext cx="5715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1714680"/>
                <a:tab algn="l" pos="228600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ushdown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Op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u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505320" y="16765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181480" y="16765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638680" y="16765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553080" y="16765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458200" y="16765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505320" y="1676520"/>
            <a:ext cx="4952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505320" y="1981080"/>
            <a:ext cx="4952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505320" y="6019920"/>
            <a:ext cx="4952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05320" y="19051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*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943600" y="5791320"/>
            <a:ext cx="2743200" cy="825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ght parse: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44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38080" y="44956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705720" y="2057400"/>
            <a:ext cx="0" cy="365760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066680" y="121932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066680" y="1704960"/>
            <a:ext cx="2286000" cy="277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447920" y="121932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828800" y="121932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209680" y="121932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590920" y="121932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971800" y="121932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85800" y="17049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" y="21621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85800" y="26193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85800" y="30765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85800" y="3533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85800" y="39909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06668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06668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066680" y="3014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066680" y="35020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066680" y="2603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066680" y="39751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4792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44792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447920" y="3014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447920" y="35020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447920" y="2603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447920" y="39751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82880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82880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828800" y="2603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828800" y="39751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20968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20968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209680" y="3014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209680" y="35020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209680" y="2603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59092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59092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590920" y="2603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590920" y="39751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97180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97180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971800" y="3014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971800" y="35020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505320" y="2209680"/>
            <a:ext cx="5105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*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505320" y="25909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*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505320" y="29718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*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505320" y="3276720"/>
            <a:ext cx="5105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+&lt;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505320" y="36576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505320" y="403848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*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505320" y="44197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505320" y="48006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505320" y="518148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505320" y="54864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 of Pre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cedenc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Table 1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12193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85800" y="1219320"/>
            <a:ext cx="609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5800" y="1143000"/>
            <a:ext cx="8458200" cy="20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…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…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62120" y="3733920"/>
            <a:ext cx="7619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62120" y="2819520"/>
            <a:ext cx="746748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…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re identifier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…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85800" y="365760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Precedence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of operator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85800" y="4038480"/>
            <a:ext cx="76201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has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higher precedenc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han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927080" y="4564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72000"/>
            <a:ext cx="3809880" cy="544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0120" y="52578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0120" y="5743440"/>
            <a:ext cx="761760" cy="928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8001000" y="52578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238880" y="574344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238880" y="6200640"/>
            <a:ext cx="381240" cy="444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620120" y="61689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001000" y="57117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85800" y="5105520"/>
            <a:ext cx="65530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Precedence-tabl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art derived fro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precedence of operator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952880" y="6035760"/>
            <a:ext cx="104472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*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+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019920" y="6095880"/>
            <a:ext cx="1066680" cy="503280"/>
          </a:xfrm>
          <a:prstGeom prst="rightArrow">
            <a:avLst>
              <a:gd name="adj1" fmla="val 50000"/>
              <a:gd name="adj2" fmla="val 52986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62120" y="5181480"/>
            <a:ext cx="7619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 of Pre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cedenc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Table 2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9480" y="106668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Associativity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85800" y="2703600"/>
            <a:ext cx="7620120" cy="20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v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qual prece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ft associa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ight associa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772400" y="53816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772400" y="5867280"/>
            <a:ext cx="762120" cy="928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8153280" y="538164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391520" y="586728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391520" y="6324480"/>
            <a:ext cx="380880" cy="444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772400" y="58514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8153280" y="6308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85800" y="1539720"/>
            <a:ext cx="7772400" cy="12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left-associativ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right-associativ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" y="2703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438280" y="3657600"/>
            <a:ext cx="3810240" cy="544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438280" y="4648320"/>
            <a:ext cx="3810240" cy="544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505320" y="6108840"/>
            <a:ext cx="35049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left-associ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left-associ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172200" y="6095880"/>
            <a:ext cx="1066680" cy="503280"/>
          </a:xfrm>
          <a:prstGeom prst="rightArrow">
            <a:avLst>
              <a:gd name="adj1" fmla="val 50000"/>
              <a:gd name="adj2" fmla="val 52986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762120" y="5257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85800" y="5181480"/>
            <a:ext cx="67816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Precedence-tabl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art derived fro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associativity of operator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13T21:08:33Z</dcterms:modified>
  <cp:revision>288</cp:revision>
  <dc:subject/>
  <dc:title>Bottom-Up Parsing</dc:title>
</cp:coreProperties>
</file>